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60160" y="1447920"/>
            <a:ext cx="10464840" cy="157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Leading Chang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60160" y="3517920"/>
            <a:ext cx="1046484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 “THE Question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is best for Kid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 NO Blanke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dividual conferences focused on technology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 Lead Learn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earning along with our staff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