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3234-27F4-47A4-8725-4E02EC59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3C25-DFCB-4099-9C87-C3EEA3CF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06C-4B02-4F85-993D-59A148D7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A3E4-92D0-4387-AD2E-3BA904C6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5BD-B69B-4E66-AE0F-EA1D8266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67A9-0C90-4191-8EEF-C76B1099B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F527-8DB5-43F6-A34B-CFA9ACAF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29D-F002-4D61-A995-2CAD3CF5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EC8-5072-4827-A03F-34D91D2A9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224-5B6B-48AD-945B-6F511E3E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8CF-E43A-43B9-A10B-644022BF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2C25-018B-4E50-AC7C-7171BF17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596D-0F7A-4082-B585-FFEE1E20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D50-F978-4FA3-A5BD-E12FA329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FE6E-7145-498D-902C-1B128F53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52E-81BD-40F0-A8A8-F5CA13EA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D74-1B9F-4797-986C-D0A86163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3B3-85BA-4238-BFD9-8A249E56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AE5D-18DE-4A33-BEB5-95CDCCF6D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79F3-657C-42B3-B6B9-74AF6668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9BB8-647F-45FF-8737-A8629218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550-3EEA-4D40-B468-C33C3078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0A16-453E-4238-895C-079625A254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FC2-3C99-429B-8863-DFE8863A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A8F5-A19F-47FC-AD00-7A01CEAB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F5D1-A40F-4393-95BE-610E01E9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DA1-1201-4005-9E0B-AAECD6CE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D0C-769F-4CAE-B064-3E195780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117-6CD4-4B34-B040-CD135FFE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AE3-F1B3-44D9-9055-8F59D3A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801-B61E-46B3-8694-E75AEDF5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D6F-E87C-4B94-8766-C966B4A6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9E1-3912-4A24-9A3F-99A03CA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2E8-C18B-4268-8191-4FA88C2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851-447B-4714-A3EC-249FCB3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675-90A0-4F66-AD79-3EB0C661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36F-B768-4E9B-91DC-912DA87D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EFE-7A07-4D64-9CE7-A04E8316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42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5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125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EADYppt_title_2.jpg"/>
          <p:cNvPicPr/>
          <p:nvPr/>
        </p:nvPicPr>
        <p:blipFill>
          <a:blip r:embed="rId2"/>
          <a:srcRect l="0" t="70499" r="0" b="0"/>
          <a:stretch/>
        </p:blipFill>
        <p:spPr>
          <a:xfrm>
            <a:off x="0" y="4834080"/>
            <a:ext cx="914400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DYppt_title_2.jpg"/>
          <p:cNvPicPr/>
          <p:nvPr/>
        </p:nvPicPr>
        <p:blipFill>
          <a:blip r:embed="rId3"/>
          <a:srcRect l="0" t="0" r="75465" b="65927"/>
          <a:stretch/>
        </p:blipFill>
        <p:spPr>
          <a:xfrm>
            <a:off x="0" y="0"/>
            <a:ext cx="2243160" cy="2336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48FA-F268-4069-BF3C-AAB4118519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itiveschoolculture.wikispaces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ances.harrisburke@dpi.nc.gov" TargetMode="External"/><Relationship Id="rId2" Type="http://schemas.openxmlformats.org/officeDocument/2006/relationships/hyperlink" Target="mailto:Jan.king@dpi.nc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Voices from the Field: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Maintain a Positive School Cultur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March 25, 2013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ana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Kelly Schofield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T Chair Kristin Walt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ana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0" name="Picture 1" descr="CCSA Dana.tiff"/>
          <p:cNvPicPr/>
          <p:nvPr/>
        </p:nvPicPr>
        <p:blipFill>
          <a:blip r:embed="rId1"/>
          <a:stretch/>
        </p:blipFill>
        <p:spPr>
          <a:xfrm>
            <a:off x="4038480" y="2971800"/>
            <a:ext cx="469908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CSA Dana 2.tiff"/>
          <p:cNvPicPr/>
          <p:nvPr/>
        </p:nvPicPr>
        <p:blipFill>
          <a:blip r:embed="rId2"/>
          <a:stretch/>
        </p:blipFill>
        <p:spPr>
          <a:xfrm>
            <a:off x="6019920" y="1600200"/>
            <a:ext cx="1955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Oak Hill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Ashton Clemmon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Public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igh Point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6" name="Picture 1" descr="Oak Hill.tiff"/>
          <p:cNvPicPr/>
          <p:nvPr/>
        </p:nvPicPr>
        <p:blipFill>
          <a:blip r:embed="rId1"/>
          <a:stretch/>
        </p:blipFill>
        <p:spPr>
          <a:xfrm>
            <a:off x="5638680" y="3124080"/>
            <a:ext cx="2830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0" y="837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Break tim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0" name="Picture 2" descr="clock.jpg"/>
          <p:cNvPicPr/>
          <p:nvPr/>
        </p:nvPicPr>
        <p:blipFill>
          <a:blip r:embed="rId1"/>
          <a:stretch/>
        </p:blipFill>
        <p:spPr>
          <a:xfrm>
            <a:off x="5334120" y="1676520"/>
            <a:ext cx="247176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295280" y="2895480"/>
            <a:ext cx="35816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See you back in 1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tories Creek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Victoria Clay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ara Holmes, Teacher Lead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oxboro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4" name="Picture 1" descr="Stories Creek 2.tiff"/>
          <p:cNvPicPr/>
          <p:nvPr/>
        </p:nvPicPr>
        <p:blipFill>
          <a:blip r:embed="rId1"/>
          <a:stretch/>
        </p:blipFill>
        <p:spPr>
          <a:xfrm>
            <a:off x="7238880" y="4114800"/>
            <a:ext cx="1770120" cy="185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Stories Creek.tiff"/>
          <p:cNvPicPr/>
          <p:nvPr/>
        </p:nvPicPr>
        <p:blipFill>
          <a:blip r:embed="rId2"/>
          <a:stretch/>
        </p:blipFill>
        <p:spPr>
          <a:xfrm>
            <a:off x="2971800" y="3048120"/>
            <a:ext cx="5985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East Rutherford High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Brad Teague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Kim Carpenter, ITF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NASSP Principal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rest City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40" name="Picture 1" descr="ER logo.tiff"/>
          <p:cNvPicPr/>
          <p:nvPr/>
        </p:nvPicPr>
        <p:blipFill>
          <a:blip r:embed="rId1"/>
          <a:stretch/>
        </p:blipFill>
        <p:spPr>
          <a:xfrm>
            <a:off x="4267080" y="5257800"/>
            <a:ext cx="4381560" cy="851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East R crest.tiff"/>
          <p:cNvPicPr/>
          <p:nvPr/>
        </p:nvPicPr>
        <p:blipFill>
          <a:blip r:embed="rId2"/>
          <a:stretch/>
        </p:blipFill>
        <p:spPr>
          <a:xfrm>
            <a:off x="5943600" y="266688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Go to Wikispace</a:t>
            </a:r>
            <a:br>
              <a:rPr sz="3600"/>
            </a:b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Open the wikispace for the workshop materials: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positiveschoolculture.wikispaces.com/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297" name="Picture 1" descr="Wiki screen shot CCSA.tiff"/>
          <p:cNvPicPr/>
          <p:nvPr/>
        </p:nvPicPr>
        <p:blipFill>
          <a:blip r:embed="rId2"/>
          <a:stretch/>
        </p:blipFill>
        <p:spPr>
          <a:xfrm>
            <a:off x="1384200" y="3681360"/>
            <a:ext cx="5918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NC Teacher Working Conditions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45" name="Content Placeholder 3" descr="TWC screen shot.tiff"/>
          <p:cNvPicPr/>
          <p:nvPr/>
        </p:nvPicPr>
        <p:blipFill>
          <a:blip r:embed="rId1"/>
          <a:srcRect l="0" t="-74084" r="0" b="-74084"/>
          <a:stretch/>
        </p:blipFill>
        <p:spPr>
          <a:xfrm>
            <a:off x="304920" y="83808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81080" y="4800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teachingcondition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In this school,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we take steps to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resolve problems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2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here is an atmosphere of trust and mutual respect in this school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2.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eachers feel comfortable raising issues and concerns that are important to them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0.7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Overall, my school is a good place to work and learn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4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heatre of Voices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If you Don</a:t>
            </a:r>
            <a:r>
              <a:rPr b="0" lang="ja-JP" sz="3200" spc="-1" strike="noStrike" u="sng">
                <a:solidFill>
                  <a:srgbClr val="63554c"/>
                </a:solidFill>
                <a:uFillTx/>
                <a:latin typeface="Arial"/>
              </a:rPr>
              <a:t>’</a:t>
            </a: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t Feed the Teachers, They Eat the Students! Guide to Success for Administrators and Teache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uthor Neila A. Conno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ontact Information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Frances Harris-Burke,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al Lead – Region 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rances.harrisburke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Jan King, Regional Lead – Region 7/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Jan.king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	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3554c"/>
                </a:solidFill>
                <a:latin typeface="Arial"/>
              </a:rPr>
              <a:t>Every public school student will graduate from high school, globally competitive for work and postsecondary education and prepared for life in the 21st Century.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533520" y="7430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  <a:ea typeface="MS PGothic"/>
              </a:rPr>
              <a:t>NC State Board of Education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554c"/>
                </a:solidFill>
                <a:latin typeface="Arial Bold"/>
              </a:rPr>
              <a:t>Outcomes:</a:t>
            </a:r>
            <a:endParaRPr b="1" lang="en-US" sz="40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Define practices for maintaining a k-12 positive school culture;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Gain an understanding on how award winning educators have implemented these practices in their schools; 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 Bold"/>
              </a:rPr>
              <a:t>Can We Agree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1523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To be actively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lu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Agree to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876920" y="3660840"/>
            <a:ext cx="3549600" cy="182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ultural Leadership  Wordle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06" name="Content Placeholder 1" descr="CCSA Wordle.tiff"/>
          <p:cNvPicPr/>
          <p:nvPr/>
        </p:nvPicPr>
        <p:blipFill>
          <a:blip r:embed="rId1"/>
          <a:srcRect l="0" t="-6982" r="0" b="-6982"/>
          <a:stretch/>
        </p:blipFill>
        <p:spPr>
          <a:xfrm>
            <a:off x="152280" y="1523880"/>
            <a:ext cx="876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ufour quot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While organizations can pronounce a change in policy or procedure, they cannot proclaim a change in attitudes, beliefs, or behaviors…The concept of changing culture may seem simple enough, but changing culture is not like changing the décor.” 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554c"/>
                </a:solidFill>
                <a:latin typeface="Arial"/>
              </a:rPr>
              <a:t>Richard DuFour and Robert Eaker (The Leader in Me)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to expect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flipH="1">
            <a:off x="5180760" y="2514600"/>
            <a:ext cx="31244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h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take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uperintendent</a:t>
            </a:r>
            <a:r>
              <a:rPr b="1" lang="ja-JP" sz="3600" spc="-1" strike="noStrike">
                <a:solidFill>
                  <a:srgbClr val="63554c"/>
                </a:solidFill>
                <a:latin typeface="Arial Bold"/>
              </a:rPr>
              <a:t>’</a:t>
            </a: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 View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Diane Fros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C Superintendent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, NC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14" name="Picture 1" descr="ACS CCSA.tiff"/>
          <p:cNvPicPr/>
          <p:nvPr/>
        </p:nvPicPr>
        <p:blipFill>
          <a:blip r:embed="rId1"/>
          <a:stretch/>
        </p:blipFill>
        <p:spPr>
          <a:xfrm>
            <a:off x="3733920" y="4952880"/>
            <a:ext cx="4838760" cy="69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ACS2 CCSA.tiff"/>
          <p:cNvPicPr/>
          <p:nvPr/>
        </p:nvPicPr>
        <p:blipFill>
          <a:blip r:embed="rId2"/>
          <a:stretch/>
        </p:blipFill>
        <p:spPr>
          <a:xfrm>
            <a:off x="6172200" y="327672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35:03Z</dcterms:created>
  <dc:creator>Allison Eargle</dc:creator>
  <dc:description/>
  <dc:language>en-US</dc:language>
  <cp:lastModifiedBy>Jan King</cp:lastModifiedBy>
  <dcterms:modified xsi:type="dcterms:W3CDTF">2013-03-13T16:40:29Z</dcterms:modified>
  <cp:revision>153</cp:revision>
  <dc:subject/>
  <dc:title>PowerPoint Presentation</dc:title>
</cp:coreProperties>
</file>