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lick to move the slide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140A-5121-4EBF-9E85-1D720F65F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F70B-0B4B-4276-88AB-42FEF4F08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4CEB-CA23-4000-85BA-0F11A1637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B7C9-E15A-4106-9F98-2D738B4B9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B5B7-0DDE-4CD3-90D2-A187B1F73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01B9-02B1-4FAD-B827-B73F997A0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ADDF-DFAB-42A9-A306-897CD5A93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9BDB-5197-465E-B145-564AE9FE7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431C-5483-4C35-8C92-8CDF4EB2F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09FE-1289-4568-A947-A5C3C6A02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8D7D-9AE6-4111-8341-1273F6955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F079-4A72-4A3E-B8C0-50FBA08A9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85B1-9497-421A-9F7C-176240E1F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1373-83E9-4ACD-83A4-EC4989BC8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7913-C236-4F74-8DF2-3EB49DB06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42FF-FC52-402A-B5CA-2DAA03A6B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815A-541B-4481-8BB0-E9888F0C8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4E77-9F67-4CC3-B8E8-63082291D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B678-47E3-4C65-8063-E8F5CC752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633C-60D1-49D3-A047-97ED6938B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B0D1-A686-410F-91BF-C3E721C17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7BF2-D094-4ACC-BC5A-8A94E1159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B564-42E9-4F49-87E1-F20B1B6DD05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81AE-CBE3-4B20-AFF7-30D58577E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79F5-902E-4021-A675-EFB305F65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5E4F-22FA-45B9-B125-52142F9C9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6A39-F8C4-44B4-9229-055647F6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6A17-AE53-4E3B-8F5D-A784B42B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0B5-707F-4B79-8112-03F396B2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06B2-BBD8-4F1C-A24D-E88A6734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7051-73F0-4D07-A660-7381DC4D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139E-647F-46C7-B7E9-CA4D082A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AE79-94D2-4C3D-BDEA-4C451687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81A-D862-42E4-8355-0D58DE42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8CAC-DAC1-4C15-A471-1F93DCAE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8DE1-7ED7-44D7-AA29-C098CCE3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6246-1160-414C-A1E5-3BE8938F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F716-3258-45CF-BAE4-3BABC6FC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631440" indent="-2426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922680" indent="-19404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214280" indent="-1940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505520" indent="-194040">
              <a:spcBef>
                <a:spcPts val="2401"/>
              </a:spcBef>
              <a:buClr>
                <a:srgbClr val="6355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11"/>
          <p:cNvSpPr/>
          <p:nvPr/>
        </p:nvSpPr>
        <p:spPr>
          <a:xfrm>
            <a:off x="76320" y="76320"/>
            <a:ext cx="899136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324120" y="1371240"/>
            <a:ext cx="2514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2" marL="891360" indent="-178200">
              <a:spcBef>
                <a:spcPts val="4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3" marL="1248120" indent="-178200">
              <a:spcBef>
                <a:spcPts val="4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4" marL="1604520" indent="-178200">
              <a:spcBef>
                <a:spcPts val="499"/>
              </a:spcBef>
              <a:buClr>
                <a:srgbClr val="63554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5" marL="1604520" indent="-178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6" marL="1604520" indent="-178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42" name="Picture 10" descr="READYppt_slide_logo.jpg"/>
          <p:cNvPicPr/>
          <p:nvPr/>
        </p:nvPicPr>
        <p:blipFill>
          <a:blip r:embed="rId3"/>
          <a:stretch/>
        </p:blipFill>
        <p:spPr>
          <a:xfrm>
            <a:off x="7162920" y="254160"/>
            <a:ext cx="838080" cy="874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2"/>
          <p:cNvSpPr/>
          <p:nvPr/>
        </p:nvSpPr>
        <p:spPr>
          <a:xfrm>
            <a:off x="309600" y="304920"/>
            <a:ext cx="5938920" cy="5849640"/>
          </a:xfrm>
          <a:prstGeom prst="rect">
            <a:avLst/>
          </a:prstGeom>
          <a:solidFill>
            <a:srgbClr val="e783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160" y="3045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15"/>
          <p:cNvSpPr/>
          <p:nvPr/>
        </p:nvSpPr>
        <p:spPr>
          <a:xfrm>
            <a:off x="380880" y="1447920"/>
            <a:ext cx="5867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2"/>
          <p:cNvSpPr/>
          <p:nvPr/>
        </p:nvSpPr>
        <p:spPr>
          <a:xfrm flipH="1">
            <a:off x="304200" y="1447920"/>
            <a:ext cx="2514600" cy="4706640"/>
          </a:xfrm>
          <a:prstGeom prst="rect">
            <a:avLst/>
          </a:prstGeom>
          <a:solidFill>
            <a:srgbClr val="e783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819160" y="1600200"/>
            <a:ext cx="6019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63554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1"/>
          <p:cNvSpPr/>
          <p:nvPr/>
        </p:nvSpPr>
        <p:spPr>
          <a:xfrm>
            <a:off x="76320" y="76320"/>
            <a:ext cx="899136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324120" y="1371240"/>
            <a:ext cx="2514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2" marL="891360" indent="-178200">
              <a:spcBef>
                <a:spcPts val="4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3" marL="1248120" indent="-178200">
              <a:spcBef>
                <a:spcPts val="4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4" marL="1604520" indent="-178200">
              <a:spcBef>
                <a:spcPts val="499"/>
              </a:spcBef>
              <a:buClr>
                <a:srgbClr val="63554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5" marL="1604520" indent="-178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6" marL="1604520" indent="-178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125" name="Picture 10" descr="READYppt_slide_logo.jpg"/>
          <p:cNvPicPr/>
          <p:nvPr/>
        </p:nvPicPr>
        <p:blipFill>
          <a:blip r:embed="rId3"/>
          <a:stretch/>
        </p:blipFill>
        <p:spPr>
          <a:xfrm>
            <a:off x="7162920" y="254160"/>
            <a:ext cx="838080" cy="8744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2"/>
          <p:cNvSpPr/>
          <p:nvPr/>
        </p:nvSpPr>
        <p:spPr>
          <a:xfrm>
            <a:off x="309600" y="304920"/>
            <a:ext cx="5938920" cy="5849640"/>
          </a:xfrm>
          <a:prstGeom prst="rect">
            <a:avLst/>
          </a:prstGeom>
          <a:solidFill>
            <a:srgbClr val="73b6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533160" y="3045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13"/>
          <p:cNvSpPr/>
          <p:nvPr/>
        </p:nvSpPr>
        <p:spPr>
          <a:xfrm>
            <a:off x="380880" y="1447920"/>
            <a:ext cx="5867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2"/>
          <p:cNvSpPr/>
          <p:nvPr/>
        </p:nvSpPr>
        <p:spPr>
          <a:xfrm flipH="1">
            <a:off x="304200" y="1447920"/>
            <a:ext cx="2514600" cy="4706640"/>
          </a:xfrm>
          <a:prstGeom prst="rect">
            <a:avLst/>
          </a:prstGeom>
          <a:solidFill>
            <a:srgbClr val="73b6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819160" y="1600200"/>
            <a:ext cx="6019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63554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READYppt_title_2.jpg"/>
          <p:cNvPicPr/>
          <p:nvPr/>
        </p:nvPicPr>
        <p:blipFill>
          <a:blip r:embed="rId2"/>
          <a:srcRect l="0" t="70499" r="0" b="0"/>
          <a:stretch/>
        </p:blipFill>
        <p:spPr>
          <a:xfrm>
            <a:off x="0" y="4834080"/>
            <a:ext cx="9144000" cy="2023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READYppt_title_2.jpg"/>
          <p:cNvPicPr/>
          <p:nvPr/>
        </p:nvPicPr>
        <p:blipFill>
          <a:blip r:embed="rId3"/>
          <a:srcRect l="0" t="0" r="75465" b="65927"/>
          <a:stretch/>
        </p:blipFill>
        <p:spPr>
          <a:xfrm>
            <a:off x="0" y="0"/>
            <a:ext cx="2243160" cy="23367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631440" indent="-2426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922680" indent="-19404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214280" indent="-1940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505520" indent="-194040">
              <a:spcBef>
                <a:spcPts val="2401"/>
              </a:spcBef>
              <a:buClr>
                <a:srgbClr val="6355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631440" indent="-2426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922680" indent="-19404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214280" indent="-1940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505520" indent="-194040">
              <a:spcBef>
                <a:spcPts val="2401"/>
              </a:spcBef>
              <a:buClr>
                <a:srgbClr val="6355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BFD8-0713-4271-9D26-FA2B2A6650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ositiveschoolculture.wikispaces.com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Frances.harrisburke@dpi.nc.gov" TargetMode="External"/><Relationship Id="rId2" Type="http://schemas.openxmlformats.org/officeDocument/2006/relationships/hyperlink" Target="mailto:Jan.king@dpi.nc.g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2057040" y="1295280"/>
            <a:ext cx="6553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3554c"/>
                </a:solidFill>
                <a:latin typeface="Arial"/>
              </a:rPr>
              <a:t>Voices from the Field: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3554c"/>
                </a:solidFill>
                <a:latin typeface="Arial"/>
              </a:rPr>
              <a:t>Maintain a Positive School Culture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"/>
              </a:rPr>
              <a:t>March 25, 2013</a:t>
            </a:r>
            <a:endParaRPr b="0" lang="en-US" sz="36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Dana Elementary School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Principal Kelly Schofield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T Chair Kristin Walter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8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Henderson County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2012 National Distinguished Schoo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Dana, NC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20" name="Picture 1" descr="CCSA Dana.tiff"/>
          <p:cNvPicPr/>
          <p:nvPr/>
        </p:nvPicPr>
        <p:blipFill>
          <a:blip r:embed="rId1"/>
          <a:stretch/>
        </p:blipFill>
        <p:spPr>
          <a:xfrm>
            <a:off x="4038480" y="2971800"/>
            <a:ext cx="4699080" cy="749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CCSA Dana 2.tiff"/>
          <p:cNvPicPr/>
          <p:nvPr/>
        </p:nvPicPr>
        <p:blipFill>
          <a:blip r:embed="rId2"/>
          <a:stretch/>
        </p:blipFill>
        <p:spPr>
          <a:xfrm>
            <a:off x="6019920" y="1600200"/>
            <a:ext cx="19555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Oak Hill Elementary School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Principal Ashton Clemmon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5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Guilford Public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High Point, NC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26" name="Picture 1" descr="Oak Hill.tiff"/>
          <p:cNvPicPr/>
          <p:nvPr/>
        </p:nvPicPr>
        <p:blipFill>
          <a:blip r:embed="rId1"/>
          <a:stretch/>
        </p:blipFill>
        <p:spPr>
          <a:xfrm>
            <a:off x="5638680" y="3124080"/>
            <a:ext cx="2830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2286000" y="837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3554c"/>
                </a:solidFill>
                <a:latin typeface="Arial"/>
              </a:rPr>
              <a:t>Break time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30" name="Picture 2" descr="clock.jpg"/>
          <p:cNvPicPr/>
          <p:nvPr/>
        </p:nvPicPr>
        <p:blipFill>
          <a:blip r:embed="rId1"/>
          <a:stretch/>
        </p:blipFill>
        <p:spPr>
          <a:xfrm>
            <a:off x="5334120" y="1676520"/>
            <a:ext cx="2471760" cy="3657600"/>
          </a:xfrm>
          <a:prstGeom prst="rect">
            <a:avLst/>
          </a:prstGeom>
          <a:ln w="0">
            <a:noFill/>
          </a:ln>
        </p:spPr>
      </p:pic>
      <p:sp>
        <p:nvSpPr>
          <p:cNvPr id="331" name="TextBox 3"/>
          <p:cNvSpPr/>
          <p:nvPr/>
        </p:nvSpPr>
        <p:spPr>
          <a:xfrm>
            <a:off x="1295280" y="2895480"/>
            <a:ext cx="3581640" cy="119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Arial"/>
              </a:rPr>
              <a:t>See you back in 15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Stories Creek Elementary School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Victoria Clay, Principa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ara Holmes, Teacher Leader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5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Person County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2012 National Distinguished School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oxboro, NC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34" name="Picture 1" descr="Stories Creek 2.tiff"/>
          <p:cNvPicPr/>
          <p:nvPr/>
        </p:nvPicPr>
        <p:blipFill>
          <a:blip r:embed="rId1"/>
          <a:stretch/>
        </p:blipFill>
        <p:spPr>
          <a:xfrm>
            <a:off x="7238880" y="4114800"/>
            <a:ext cx="1770120" cy="1854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Stories Creek.tiff"/>
          <p:cNvPicPr/>
          <p:nvPr/>
        </p:nvPicPr>
        <p:blipFill>
          <a:blip r:embed="rId2"/>
          <a:stretch/>
        </p:blipFill>
        <p:spPr>
          <a:xfrm>
            <a:off x="2971800" y="3048120"/>
            <a:ext cx="598500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East Rutherford High School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Brad Teague, Principa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Kim Carpenter, ITF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8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utherford County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NASSP Principal of the Year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rest City, NC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40" name="Picture 1" descr="ER logo.tiff"/>
          <p:cNvPicPr/>
          <p:nvPr/>
        </p:nvPicPr>
        <p:blipFill>
          <a:blip r:embed="rId1"/>
          <a:stretch/>
        </p:blipFill>
        <p:spPr>
          <a:xfrm>
            <a:off x="4267080" y="5257800"/>
            <a:ext cx="4381560" cy="851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East R crest.tiff"/>
          <p:cNvPicPr/>
          <p:nvPr/>
        </p:nvPicPr>
        <p:blipFill>
          <a:blip r:embed="rId2"/>
          <a:stretch/>
        </p:blipFill>
        <p:spPr>
          <a:xfrm>
            <a:off x="5943600" y="2666880"/>
            <a:ext cx="24382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Go to Wikispace</a:t>
            </a:r>
            <a:br>
              <a:rPr sz="3600"/>
            </a:b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560" y="15235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Open the wikispace for the workshop materials: 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positiveschoolculture.wikispaces.com/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297" name="Picture 1" descr="Wiki screen shot CCSA.tiff"/>
          <p:cNvPicPr/>
          <p:nvPr/>
        </p:nvPicPr>
        <p:blipFill>
          <a:blip r:embed="rId2"/>
          <a:stretch/>
        </p:blipFill>
        <p:spPr>
          <a:xfrm>
            <a:off x="1384200" y="3681360"/>
            <a:ext cx="59184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NC Teacher Working Conditions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pic>
        <p:nvPicPr>
          <p:cNvPr id="345" name="Content Placeholder 3" descr="TWC screen shot.tiff"/>
          <p:cNvPicPr/>
          <p:nvPr/>
        </p:nvPicPr>
        <p:blipFill>
          <a:blip r:embed="rId1"/>
          <a:srcRect l="0" t="-74084" r="0" b="-74084"/>
          <a:stretch/>
        </p:blipFill>
        <p:spPr>
          <a:xfrm>
            <a:off x="304920" y="838080"/>
            <a:ext cx="8534160" cy="45720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4"/>
          <p:cNvSpPr/>
          <p:nvPr/>
        </p:nvSpPr>
        <p:spPr>
          <a:xfrm>
            <a:off x="1981080" y="48006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cteachingconditions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did they say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523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In this school,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we take steps to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resolve problems.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49" name="TextBox 3"/>
          <p:cNvSpPr/>
          <p:nvPr/>
        </p:nvSpPr>
        <p:spPr>
          <a:xfrm>
            <a:off x="2743200" y="4800600"/>
            <a:ext cx="358128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2.6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did they say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523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There is an atmosphere of trust and mutual respect in this school.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2743200" y="4800600"/>
            <a:ext cx="358128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2.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did they say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523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Teachers feel comfortable raising issues and concerns that are important to them.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2743200" y="4800600"/>
            <a:ext cx="358128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0.7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did they say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981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Overall, my school is a good place to work and learn.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58" name="TextBox 3"/>
          <p:cNvSpPr/>
          <p:nvPr/>
        </p:nvSpPr>
        <p:spPr>
          <a:xfrm>
            <a:off x="2743200" y="4800600"/>
            <a:ext cx="358128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4.6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3"/>
          <p:cNvSpPr/>
          <p:nvPr/>
        </p:nvSpPr>
        <p:spPr>
          <a:xfrm>
            <a:off x="533520" y="1905120"/>
            <a:ext cx="8001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ader is one w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now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way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es the way, 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the w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Max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3520" y="1905120"/>
            <a:ext cx="8001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ader is one w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s the way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oe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way, 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the w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Max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3"/>
          <p:cNvSpPr/>
          <p:nvPr/>
        </p:nvSpPr>
        <p:spPr>
          <a:xfrm>
            <a:off x="533520" y="1905120"/>
            <a:ext cx="8001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ader is one w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s the way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es the way, 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w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w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Max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heatre of Voices 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14479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3554c"/>
                </a:solidFill>
                <a:uFillTx/>
                <a:latin typeface="Arial"/>
              </a:rPr>
              <a:t>If you Don</a:t>
            </a:r>
            <a:r>
              <a:rPr b="0" lang="ja-JP" sz="3200" spc="-1" strike="noStrike" u="sng">
                <a:solidFill>
                  <a:srgbClr val="63554c"/>
                </a:solidFill>
                <a:uFillTx/>
                <a:latin typeface="Arial"/>
              </a:rPr>
              <a:t>’</a:t>
            </a:r>
            <a:r>
              <a:rPr b="0" lang="en-US" sz="3200" spc="-1" strike="noStrike" u="sng">
                <a:solidFill>
                  <a:srgbClr val="63554c"/>
                </a:solidFill>
                <a:uFillTx/>
                <a:latin typeface="Arial"/>
              </a:rPr>
              <a:t>t Feed the Teachers, They Eat the Students! Guide to Success for Administrators and Teacher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Author Neila A. Connor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ontact Information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Dr. Frances Harris-Burke,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al Lead – Region  5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Frances.harrisburke@dpi.nc.gov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Jan King, Regional Lead – Region 7/8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Jan.king@dpi.nc.gov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	</a:t>
            </a:r>
            <a:r>
              <a:rPr b="0" i="1" lang="ja-JP" sz="3200" spc="-1" strike="noStrike">
                <a:solidFill>
                  <a:srgbClr val="63554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63554c"/>
                </a:solidFill>
                <a:latin typeface="Arial"/>
              </a:rPr>
              <a:t>Every public school student will graduate from high school, globally competitive for work and postsecondary education and prepared for life in the 21st Century.</a:t>
            </a:r>
            <a:r>
              <a:rPr b="0" i="1" lang="ja-JP" sz="3200" spc="-1" strike="noStrike">
                <a:solidFill>
                  <a:srgbClr val="63554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99" name="TextBox 1"/>
          <p:cNvSpPr/>
          <p:nvPr/>
        </p:nvSpPr>
        <p:spPr>
          <a:xfrm>
            <a:off x="533520" y="74304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Arial"/>
                <a:ea typeface="MS PGothic"/>
              </a:rPr>
              <a:t>NC State Board of Education 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554c"/>
                </a:solidFill>
                <a:latin typeface="Arial Bold"/>
              </a:rPr>
              <a:t>Outcomes:</a:t>
            </a:r>
            <a:endParaRPr b="1" lang="en-US" sz="40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3554c"/>
                </a:solidFill>
                <a:latin typeface="Arial"/>
              </a:rPr>
              <a:t>Define practices for maintaining a k-12 positive school culture;</a:t>
            </a:r>
            <a:endParaRPr b="0" lang="en-US" sz="28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3554c"/>
                </a:solidFill>
                <a:latin typeface="Arial"/>
              </a:rPr>
              <a:t>Gain an understanding on how award winning educators have implemented these practices in their schools; </a:t>
            </a:r>
            <a:endParaRPr b="0" lang="en-US" sz="28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Arial Bold"/>
              </a:rPr>
              <a:t>Can We Agree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533520" y="152388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To be actively invol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Value dif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Agree to disag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Li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4876920" y="3660840"/>
            <a:ext cx="3549600" cy="1820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ultural Leadership  Wordle 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pic>
        <p:nvPicPr>
          <p:cNvPr id="306" name="Content Placeholder 1" descr="CCSA Wordle.tiff"/>
          <p:cNvPicPr/>
          <p:nvPr/>
        </p:nvPicPr>
        <p:blipFill>
          <a:blip r:embed="rId1"/>
          <a:srcRect l="0" t="-6982" r="0" b="-6982"/>
          <a:stretch/>
        </p:blipFill>
        <p:spPr>
          <a:xfrm>
            <a:off x="152280" y="1523880"/>
            <a:ext cx="8763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Dufour quote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63554c"/>
                </a:solidFill>
                <a:latin typeface="Times New Roman"/>
                <a:ea typeface="Times New Roman"/>
              </a:rPr>
              <a:t>While organizations can pronounce a change in policy or procedure, they cannot proclaim a change in attitudes, beliefs, or behaviors…The concept of changing culture may seem simple enough, but changing culture is not like changing the décor.” </a:t>
            </a:r>
            <a:endParaRPr b="0" lang="en-US" sz="3600" spc="-1" strike="noStrike">
              <a:solidFill>
                <a:srgbClr val="63554c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3554c"/>
                </a:solidFill>
                <a:latin typeface="Arial"/>
              </a:rPr>
              <a:t>Richard DuFour and Robert Eaker (The Leader in Me)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to expect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Asheboro Ci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Henderson Coun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Guilford Coun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Person Coun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utherford Coun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11" name="TextBox 3"/>
          <p:cNvSpPr/>
          <p:nvPr/>
        </p:nvSpPr>
        <p:spPr>
          <a:xfrm flipH="1">
            <a:off x="5180760" y="2514600"/>
            <a:ext cx="3124440" cy="1557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you h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you take a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Superintendent</a:t>
            </a:r>
            <a:r>
              <a:rPr b="1" lang="ja-JP" sz="3600" spc="-1" strike="noStrike">
                <a:solidFill>
                  <a:srgbClr val="63554c"/>
                </a:solidFill>
                <a:latin typeface="Arial Bold"/>
              </a:rPr>
              <a:t>’</a:t>
            </a: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s View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Dr. Diane Fros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2012 NC Superintendent of the Year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5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Asheboro City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Asheboro, NC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14" name="Picture 1" descr="ACS CCSA.tiff"/>
          <p:cNvPicPr/>
          <p:nvPr/>
        </p:nvPicPr>
        <p:blipFill>
          <a:blip r:embed="rId1"/>
          <a:stretch/>
        </p:blipFill>
        <p:spPr>
          <a:xfrm>
            <a:off x="3733920" y="4952880"/>
            <a:ext cx="4838760" cy="698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ACS2 CCSA.tiff"/>
          <p:cNvPicPr/>
          <p:nvPr/>
        </p:nvPicPr>
        <p:blipFill>
          <a:blip r:embed="rId2"/>
          <a:stretch/>
        </p:blipFill>
        <p:spPr>
          <a:xfrm>
            <a:off x="6172200" y="327672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7:35:03Z</dcterms:created>
  <dc:creator>Allison Eargle</dc:creator>
  <dc:description/>
  <dc:language>en-US</dc:language>
  <cp:lastModifiedBy>Jan King</cp:lastModifiedBy>
  <dcterms:modified xsi:type="dcterms:W3CDTF">2013-03-13T16:40:29Z</dcterms:modified>
  <cp:revision>153</cp:revision>
  <dc:subject/>
  <dc:title>PowerPoint Presentation</dc:title>
</cp:coreProperties>
</file>