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move the slid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7681-B17B-471B-B288-0AE39FD89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067B-7483-45E1-A72C-0FC87FBAB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E723-59FF-4E85-9843-D675F216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CC5B-EF36-4C9A-BC73-D200B0AA5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91DB-BC7C-4C8D-A507-09BB2D14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F15E-A9AD-401C-AD93-6F06EAF81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CB15-33AD-4565-9DCA-03243C752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DEC0-9F14-45DE-BAC5-D2E36715F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723B-F179-4E73-B8CF-52D61B31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4EA2-FC89-49CD-AA4C-01CAA010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2131-AEE6-413E-9F6F-6518EA6DB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5A92-BCA2-40D9-8A08-C34E82176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1EF5-1B83-46F5-AAB8-F2CE04DC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D30F-C330-40F3-ADEB-04AC0D081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FC7D-93D0-470D-9E34-794D0F60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8949-3766-4594-867C-C4947FA7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F3DB-2850-40D9-B92F-FC5DEF50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E037-7600-406F-9999-5C8E6ED9B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414D-D1A7-4E00-9539-6FE9FD95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3FEB-E906-41B4-8A2B-369C14DD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5A19-7980-4FD6-872B-03A112A6D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037E-E4BD-4FE6-8DC5-8F3BBD41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D916-F1A1-43E1-B19B-DDCE5CB995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F660-0A16-40E3-98A0-2C43B402A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CE92-C533-4D55-8FA2-BB35875A1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3213-1A62-4488-B9B9-1E95DFAF8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929-8720-4A4F-822A-95F3C3DD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C1C-4CE4-444F-9E4C-BF42566A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CCB-F945-499C-A0FA-6E6D5A84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1F9-2998-4E30-A09F-65675A8D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BB1-8536-4F2A-A6EC-4A1B8532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764-9759-4ABD-B505-BF8ABA4A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2C0-0E68-484C-8F1E-762C3FC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FB4-6AE1-487B-8E1C-93D0235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32B-4AB7-43D8-8403-B49A3E2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FE1-C4E0-4FAA-9513-C1ED0D54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51C-A8CE-4483-A268-7A4F6060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1EC-E9BF-4D0F-AE8E-D843EEED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42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15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125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3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READYppt_title_2.jpg"/>
          <p:cNvPicPr/>
          <p:nvPr/>
        </p:nvPicPr>
        <p:blipFill>
          <a:blip r:embed="rId2"/>
          <a:srcRect l="0" t="70499" r="0" b="0"/>
          <a:stretch/>
        </p:blipFill>
        <p:spPr>
          <a:xfrm>
            <a:off x="0" y="4834080"/>
            <a:ext cx="9144000" cy="202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READYppt_title_2.jpg"/>
          <p:cNvPicPr/>
          <p:nvPr/>
        </p:nvPicPr>
        <p:blipFill>
          <a:blip r:embed="rId3"/>
          <a:srcRect l="0" t="0" r="75465" b="65927"/>
          <a:stretch/>
        </p:blipFill>
        <p:spPr>
          <a:xfrm>
            <a:off x="0" y="0"/>
            <a:ext cx="2243160" cy="2336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7353-F938-4046-9749-992619292A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sitiveschoolculture.wikispaces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Frances.harrisburke@dpi.nc.gov" TargetMode="External"/><Relationship Id="rId2" Type="http://schemas.openxmlformats.org/officeDocument/2006/relationships/hyperlink" Target="mailto:Jan.king@dpi.nc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553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Voices from the Field: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Maintain a Positive School Cultur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March 25, 2013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ana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Kelly Schofield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T Chair Kristin Walt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ana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0" name="Picture 1" descr="CCSA Dana.tiff"/>
          <p:cNvPicPr/>
          <p:nvPr/>
        </p:nvPicPr>
        <p:blipFill>
          <a:blip r:embed="rId1"/>
          <a:stretch/>
        </p:blipFill>
        <p:spPr>
          <a:xfrm>
            <a:off x="4038480" y="2971800"/>
            <a:ext cx="4699080" cy="749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CCSA Dana 2.tiff"/>
          <p:cNvPicPr/>
          <p:nvPr/>
        </p:nvPicPr>
        <p:blipFill>
          <a:blip r:embed="rId2"/>
          <a:stretch/>
        </p:blipFill>
        <p:spPr>
          <a:xfrm>
            <a:off x="6019920" y="1600200"/>
            <a:ext cx="19555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Oak Hill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Ashton Clemmon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Public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igh Point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6" name="Picture 1" descr="Oak Hill.tiff"/>
          <p:cNvPicPr/>
          <p:nvPr/>
        </p:nvPicPr>
        <p:blipFill>
          <a:blip r:embed="rId1"/>
          <a:stretch/>
        </p:blipFill>
        <p:spPr>
          <a:xfrm>
            <a:off x="5638680" y="3124080"/>
            <a:ext cx="2830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286000" y="837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Break tim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0" name="Picture 2" descr="clock.jpg"/>
          <p:cNvPicPr/>
          <p:nvPr/>
        </p:nvPicPr>
        <p:blipFill>
          <a:blip r:embed="rId1"/>
          <a:stretch/>
        </p:blipFill>
        <p:spPr>
          <a:xfrm>
            <a:off x="5334120" y="1676520"/>
            <a:ext cx="247176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"/>
          <p:cNvSpPr/>
          <p:nvPr/>
        </p:nvSpPr>
        <p:spPr>
          <a:xfrm>
            <a:off x="1295280" y="2895480"/>
            <a:ext cx="35816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Arial"/>
              </a:rPr>
              <a:t>See you back in 15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tories Creek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Victoria Clay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ara Holmes, Teacher Lead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oxboro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4" name="Picture 1" descr="Stories Creek 2.tiff"/>
          <p:cNvPicPr/>
          <p:nvPr/>
        </p:nvPicPr>
        <p:blipFill>
          <a:blip r:embed="rId1"/>
          <a:stretch/>
        </p:blipFill>
        <p:spPr>
          <a:xfrm>
            <a:off x="7238880" y="4114800"/>
            <a:ext cx="1770120" cy="1854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Stories Creek.tiff"/>
          <p:cNvPicPr/>
          <p:nvPr/>
        </p:nvPicPr>
        <p:blipFill>
          <a:blip r:embed="rId2"/>
          <a:stretch/>
        </p:blipFill>
        <p:spPr>
          <a:xfrm>
            <a:off x="2971800" y="3048120"/>
            <a:ext cx="5985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East Rutherford High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Brad Teague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Kim Carpenter, ITF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NASSP Principal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rest City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40" name="Picture 1" descr="ER logo.tiff"/>
          <p:cNvPicPr/>
          <p:nvPr/>
        </p:nvPicPr>
        <p:blipFill>
          <a:blip r:embed="rId1"/>
          <a:stretch/>
        </p:blipFill>
        <p:spPr>
          <a:xfrm>
            <a:off x="4267080" y="5257800"/>
            <a:ext cx="4381560" cy="851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East R crest.tiff"/>
          <p:cNvPicPr/>
          <p:nvPr/>
        </p:nvPicPr>
        <p:blipFill>
          <a:blip r:embed="rId2"/>
          <a:stretch/>
        </p:blipFill>
        <p:spPr>
          <a:xfrm>
            <a:off x="5943600" y="2666880"/>
            <a:ext cx="2438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Go to Wikispace</a:t>
            </a:r>
            <a:br>
              <a:rPr sz="3600"/>
            </a:b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560" y="15235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Open the wikispace for the workshop materials: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positiveschoolculture.wikispaces.com/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297" name="Picture 1" descr="Wiki screen shot CCSA.tiff"/>
          <p:cNvPicPr/>
          <p:nvPr/>
        </p:nvPicPr>
        <p:blipFill>
          <a:blip r:embed="rId2"/>
          <a:stretch/>
        </p:blipFill>
        <p:spPr>
          <a:xfrm>
            <a:off x="1384200" y="3681360"/>
            <a:ext cx="5918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NC Teacher Working Conditions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45" name="Content Placeholder 3" descr="TWC screen shot.tiff"/>
          <p:cNvPicPr/>
          <p:nvPr/>
        </p:nvPicPr>
        <p:blipFill>
          <a:blip r:embed="rId1"/>
          <a:srcRect l="0" t="-74084" r="0" b="-74084"/>
          <a:stretch/>
        </p:blipFill>
        <p:spPr>
          <a:xfrm>
            <a:off x="304920" y="838080"/>
            <a:ext cx="8534160" cy="4572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1981080" y="4800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cteachingcondition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In this school,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we take steps to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resolve problems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2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here is an atmosphere of trust and mutual respect in this school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2.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eachers feel comfortable raising issues and concerns that are important to them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0.7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Overall, my school is a good place to work and learn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4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heatre of Voices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If you Don</a:t>
            </a:r>
            <a:r>
              <a:rPr b="0" lang="ja-JP" sz="3200" spc="-1" strike="noStrike" u="sng">
                <a:solidFill>
                  <a:srgbClr val="63554c"/>
                </a:solidFill>
                <a:uFillTx/>
                <a:latin typeface="Arial"/>
              </a:rPr>
              <a:t>’</a:t>
            </a: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t Feed the Teachers, They Eat the Students! Guide to Success for Administrators and Teache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uthor Neila A. Conno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ontact Information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Frances Harris-Burke,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al Lead – Region 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Frances.harrisburke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Jan King, Regional Lead – Region 7/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Jan.king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	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3554c"/>
                </a:solidFill>
                <a:latin typeface="Arial"/>
              </a:rPr>
              <a:t>Every public school student will graduate from high school, globally competitive for work and postsecondary education and prepared for life in the 21st Century.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533520" y="7430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Arial"/>
                <a:ea typeface="MS PGothic"/>
              </a:rPr>
              <a:t>NC State Board of Education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554c"/>
                </a:solidFill>
                <a:latin typeface="Arial Bold"/>
              </a:rPr>
              <a:t>Outcomes:</a:t>
            </a:r>
            <a:endParaRPr b="1" lang="en-US" sz="40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Define practices for maintaining a k-12 positive school culture;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Gain an understanding on how award winning educators have implemented these practices in their schools; 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 Bold"/>
              </a:rPr>
              <a:t>Can We Agree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33520" y="1523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To be actively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Value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Agree to dis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4876920" y="3660840"/>
            <a:ext cx="3549600" cy="1820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ultural Leadership  Wordle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06" name="Content Placeholder 1" descr="CCSA Wordle.tiff"/>
          <p:cNvPicPr/>
          <p:nvPr/>
        </p:nvPicPr>
        <p:blipFill>
          <a:blip r:embed="rId1"/>
          <a:srcRect l="0" t="-6982" r="0" b="-6982"/>
          <a:stretch/>
        </p:blipFill>
        <p:spPr>
          <a:xfrm>
            <a:off x="152280" y="1523880"/>
            <a:ext cx="8763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ufour quot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While organizations can pronounce a change in policy or procedure, they cannot proclaim a change in attitudes, beliefs, or behaviors…The concept of changing culture may seem simple enough, but changing culture is not like changing the décor.” 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554c"/>
                </a:solidFill>
                <a:latin typeface="Arial"/>
              </a:rPr>
              <a:t>Richard DuFour and Robert Eaker (The Leader in Me)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to expect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 flipH="1">
            <a:off x="5180760" y="2514600"/>
            <a:ext cx="3124440" cy="155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h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take a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uperintendent</a:t>
            </a:r>
            <a:r>
              <a:rPr b="1" lang="ja-JP" sz="3600" spc="-1" strike="noStrike">
                <a:solidFill>
                  <a:srgbClr val="63554c"/>
                </a:solidFill>
                <a:latin typeface="Arial Bold"/>
              </a:rPr>
              <a:t>’</a:t>
            </a: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 View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Diane Fros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C Superintendent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, NC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14" name="Picture 1" descr="ACS CCSA.tiff"/>
          <p:cNvPicPr/>
          <p:nvPr/>
        </p:nvPicPr>
        <p:blipFill>
          <a:blip r:embed="rId1"/>
          <a:stretch/>
        </p:blipFill>
        <p:spPr>
          <a:xfrm>
            <a:off x="3733920" y="4952880"/>
            <a:ext cx="4838760" cy="69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ACS2 CCSA.tiff"/>
          <p:cNvPicPr/>
          <p:nvPr/>
        </p:nvPicPr>
        <p:blipFill>
          <a:blip r:embed="rId2"/>
          <a:stretch/>
        </p:blipFill>
        <p:spPr>
          <a:xfrm>
            <a:off x="6172200" y="327672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35:03Z</dcterms:created>
  <dc:creator>Allison Eargle</dc:creator>
  <dc:description/>
  <dc:language>en-US</dc:language>
  <cp:lastModifiedBy>Jan King</cp:lastModifiedBy>
  <dcterms:modified xsi:type="dcterms:W3CDTF">2013-03-13T16:40:29Z</dcterms:modified>
  <cp:revision>153</cp:revision>
  <dc:subject/>
  <dc:title>PowerPoint Presentation</dc:title>
</cp:coreProperties>
</file>