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0.png" ContentType="image/pn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3554c"/>
                </a:solidFill>
                <a:latin typeface="Arial Bold"/>
              </a:rPr>
              <a:t>Click to move the slide</a:t>
            </a: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E1014-F9DF-470F-90DF-BF2A44D8AE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71469-AF58-4E74-B6DF-69A274ECFF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5666D-3C94-4C9A-8B8B-4E6B646AE5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FB06B-BF2F-4546-A00C-E2031FB8C7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86EE1-C320-4F60-B370-DCA54E3A92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112B3-025A-4F41-92A0-937ABF9B56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AFD75-E3B4-4123-A4BC-1950FD4D1B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3CFD9-E56D-4467-9D0B-8159139AA3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EBE24-14C4-4ACE-99AD-A174EA482D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EA151-9CD7-444A-91F7-BE3503DA6D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B3B75-AE93-4ECC-A598-276F14E538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4CF40-796C-4A86-AF6D-7290CBFAD6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3BA7F-C209-42FF-B579-2AB0988CB6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1ECDC-3A41-4834-9C4B-E5AE08BF6C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F026E-6189-4EAC-8442-D445558072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B6F7F-ECA1-4BA3-B2B0-EAEF946A72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046E1-F416-400C-90E7-075E2B0AB8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8F574-8016-46FD-A039-D686253EA3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7B955-04B0-4B7F-965A-99F5BC0A1C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5613B-D73A-428F-9D12-7CD826DEC1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8F5DB-869F-4C90-B84D-51F2ADF58B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1B7A0-D600-4F30-97E7-A74B83B3B4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D9A07-4849-46BC-86A0-91F6A4211529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F2957-A452-4BD3-8DFF-FDDC97B285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75176-2AE9-4485-B8DE-0BB2BCB58D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E28D5-5ABC-4E7D-A71E-D3A9AFD7CB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534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04920" y="3912120"/>
            <a:ext cx="8534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164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64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912120"/>
            <a:ext cx="4164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7840" y="3912120"/>
            <a:ext cx="4164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74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190680" y="1523880"/>
            <a:ext cx="274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76080" y="1523880"/>
            <a:ext cx="274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04920" y="3912120"/>
            <a:ext cx="274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190680" y="3912120"/>
            <a:ext cx="274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76080" y="3912120"/>
            <a:ext cx="274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4920" y="1523880"/>
            <a:ext cx="85341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5341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164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64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4920" y="304560"/>
            <a:ext cx="853416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164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64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4920" y="3912120"/>
            <a:ext cx="4164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304920" y="1523880"/>
            <a:ext cx="85341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164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64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7840" y="3912120"/>
            <a:ext cx="4164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164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64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4920" y="3912120"/>
            <a:ext cx="8534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534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4920" y="3912120"/>
            <a:ext cx="8534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164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64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4920" y="3912120"/>
            <a:ext cx="4164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7840" y="3912120"/>
            <a:ext cx="4164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74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90680" y="1523880"/>
            <a:ext cx="274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080" y="1523880"/>
            <a:ext cx="274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4920" y="3912120"/>
            <a:ext cx="274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90680" y="3912120"/>
            <a:ext cx="274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080" y="3912120"/>
            <a:ext cx="274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304920" y="1523880"/>
            <a:ext cx="85341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5341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164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64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5341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304920" y="304560"/>
            <a:ext cx="853416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164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64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304920" y="3912120"/>
            <a:ext cx="4164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164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64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7840" y="3912120"/>
            <a:ext cx="4164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164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64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304920" y="3912120"/>
            <a:ext cx="8534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534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04920" y="3912120"/>
            <a:ext cx="8534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164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64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304920" y="3912120"/>
            <a:ext cx="4164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7840" y="3912120"/>
            <a:ext cx="4164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74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190680" y="1523880"/>
            <a:ext cx="274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76080" y="1523880"/>
            <a:ext cx="274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304920" y="3912120"/>
            <a:ext cx="274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190680" y="3912120"/>
            <a:ext cx="274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76080" y="3912120"/>
            <a:ext cx="274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304920" y="1523880"/>
            <a:ext cx="85341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5341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164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64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164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64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304920" y="304560"/>
            <a:ext cx="853416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164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64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4920" y="3912120"/>
            <a:ext cx="4164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164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64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7840" y="3912120"/>
            <a:ext cx="4164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164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64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304920" y="3912120"/>
            <a:ext cx="8534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534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04920" y="3912120"/>
            <a:ext cx="8534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164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64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304920" y="3912120"/>
            <a:ext cx="4164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7840" y="3912120"/>
            <a:ext cx="4164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74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190680" y="1523880"/>
            <a:ext cx="274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76080" y="1523880"/>
            <a:ext cx="274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304920" y="3912120"/>
            <a:ext cx="274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190680" y="3912120"/>
            <a:ext cx="274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76080" y="3912120"/>
            <a:ext cx="274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304920" y="1523880"/>
            <a:ext cx="85341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5341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164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64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304920" y="304560"/>
            <a:ext cx="853416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164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64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304920" y="3912120"/>
            <a:ext cx="4164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164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64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7840" y="3912120"/>
            <a:ext cx="4164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164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64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304920" y="3912120"/>
            <a:ext cx="8534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534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04920" y="3912120"/>
            <a:ext cx="8534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164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64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4920" y="3912120"/>
            <a:ext cx="4164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7840" y="3912120"/>
            <a:ext cx="4164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304920" y="304560"/>
            <a:ext cx="853416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74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190680" y="1523880"/>
            <a:ext cx="274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76080" y="1523880"/>
            <a:ext cx="274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304920" y="3912120"/>
            <a:ext cx="274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190680" y="3912120"/>
            <a:ext cx="274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76080" y="3912120"/>
            <a:ext cx="274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304920" y="1523880"/>
            <a:ext cx="85341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5341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164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64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304920" y="304560"/>
            <a:ext cx="853416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164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64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304920" y="3912120"/>
            <a:ext cx="4164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164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64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7840" y="3912120"/>
            <a:ext cx="4164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164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64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4920" y="3912120"/>
            <a:ext cx="8534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164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64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304920" y="3912120"/>
            <a:ext cx="4164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534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04920" y="3912120"/>
            <a:ext cx="8534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164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64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304920" y="3912120"/>
            <a:ext cx="4164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7840" y="3912120"/>
            <a:ext cx="4164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74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190680" y="1523880"/>
            <a:ext cx="274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76080" y="1523880"/>
            <a:ext cx="274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304920" y="3912120"/>
            <a:ext cx="274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190680" y="3912120"/>
            <a:ext cx="274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76080" y="3912120"/>
            <a:ext cx="274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D1F3D-FFA6-4A25-9547-4B74D5833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304920" y="1523880"/>
            <a:ext cx="85341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51BEE-7329-475E-A6F1-74C1F6D81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5341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20AF0-4FC0-43BC-B54A-3FB342166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164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64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2389A-0FAD-4066-B7E9-F08E50EF5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259DB-48B3-466B-9B10-3D4C66DBF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304920" y="304560"/>
            <a:ext cx="853416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EA22C-EE5D-4EE1-9E0A-0E0C67D9C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164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64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4920" y="3912120"/>
            <a:ext cx="4164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6ABFA-1EAD-4017-856B-26FA843D5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164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64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7840" y="3912120"/>
            <a:ext cx="4164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164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64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7840" y="3912120"/>
            <a:ext cx="4164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20F9F-B81F-4CEA-B233-E1A015BBD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164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64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304920" y="3912120"/>
            <a:ext cx="8534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71E8C-A6B5-498E-9405-AA4B64780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534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04920" y="3912120"/>
            <a:ext cx="8534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2534F-A3EF-45B3-9282-8E69EAF72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164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64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304920" y="3912120"/>
            <a:ext cx="4164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7840" y="3912120"/>
            <a:ext cx="4164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E2438-9FA0-44E5-9A52-F3F353122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74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190680" y="1523880"/>
            <a:ext cx="274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76080" y="1523880"/>
            <a:ext cx="274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304920" y="3912120"/>
            <a:ext cx="274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190680" y="3912120"/>
            <a:ext cx="274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76080" y="3912120"/>
            <a:ext cx="274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2DA98-381E-400D-820C-2A1410D64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164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64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04920" y="3912120"/>
            <a:ext cx="8534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READYppt_slid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3554c"/>
                </a:solidFill>
                <a:latin typeface="Arial Bold"/>
              </a:rPr>
              <a:t>Click to edit the title text format</a:t>
            </a: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04920" y="1523880"/>
            <a:ext cx="85341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2401"/>
              </a:spcBef>
              <a:buClr>
                <a:srgbClr val="6355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  <a:p>
            <a:pPr lvl="1" marL="631440" indent="-242640">
              <a:spcBef>
                <a:spcPts val="2401"/>
              </a:spcBef>
              <a:buClr>
                <a:srgbClr val="63554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  <a:p>
            <a:pPr lvl="2" marL="922680" indent="-194040">
              <a:spcBef>
                <a:spcPts val="2401"/>
              </a:spcBef>
              <a:buClr>
                <a:srgbClr val="6355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  <a:p>
            <a:pPr lvl="3" marL="1214280" indent="-194040">
              <a:spcBef>
                <a:spcPts val="2401"/>
              </a:spcBef>
              <a:buClr>
                <a:srgbClr val="63554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  <a:p>
            <a:pPr lvl="4" marL="1505520" indent="-194040">
              <a:spcBef>
                <a:spcPts val="2401"/>
              </a:spcBef>
              <a:buClr>
                <a:srgbClr val="63554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  <a:p>
            <a:pPr lvl="5" marL="1505520" indent="-194040">
              <a:spcBef>
                <a:spcPts val="24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  <a:p>
            <a:pPr lvl="6" marL="1505520" indent="-194040">
              <a:spcBef>
                <a:spcPts val="24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6" descr="READYppt_slid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" name="Rectangle 11"/>
          <p:cNvSpPr/>
          <p:nvPr/>
        </p:nvSpPr>
        <p:spPr>
          <a:xfrm>
            <a:off x="76320" y="76320"/>
            <a:ext cx="8991360" cy="609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6324120" y="1371240"/>
            <a:ext cx="2514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spcBef>
                <a:spcPts val="499"/>
              </a:spcBef>
              <a:buClr>
                <a:srgbClr val="63554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54c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63554c"/>
              </a:solidFill>
              <a:latin typeface="Arial"/>
            </a:endParaRPr>
          </a:p>
          <a:p>
            <a:pPr lvl="1" marL="579240" indent="-222840">
              <a:spcBef>
                <a:spcPts val="499"/>
              </a:spcBef>
              <a:buClr>
                <a:srgbClr val="63554c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54c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63554c"/>
              </a:solidFill>
              <a:latin typeface="Arial"/>
            </a:endParaRPr>
          </a:p>
          <a:p>
            <a:pPr lvl="2" marL="891360" indent="-178200">
              <a:spcBef>
                <a:spcPts val="499"/>
              </a:spcBef>
              <a:buClr>
                <a:srgbClr val="63554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54c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63554c"/>
              </a:solidFill>
              <a:latin typeface="Arial"/>
            </a:endParaRPr>
          </a:p>
          <a:p>
            <a:pPr lvl="3" marL="1248120" indent="-178200">
              <a:spcBef>
                <a:spcPts val="499"/>
              </a:spcBef>
              <a:buClr>
                <a:srgbClr val="63554c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54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63554c"/>
              </a:solidFill>
              <a:latin typeface="Arial"/>
            </a:endParaRPr>
          </a:p>
          <a:p>
            <a:pPr lvl="4" marL="1604520" indent="-178200">
              <a:spcBef>
                <a:spcPts val="499"/>
              </a:spcBef>
              <a:buClr>
                <a:srgbClr val="63554c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54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63554c"/>
              </a:solidFill>
              <a:latin typeface="Arial"/>
            </a:endParaRPr>
          </a:p>
          <a:p>
            <a:pPr lvl="5" marL="1604520" indent="-1782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54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63554c"/>
              </a:solidFill>
              <a:latin typeface="Arial"/>
            </a:endParaRPr>
          </a:p>
          <a:p>
            <a:pPr lvl="6" marL="1604520" indent="-1782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54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63554c"/>
              </a:solidFill>
              <a:latin typeface="Arial"/>
            </a:endParaRPr>
          </a:p>
        </p:txBody>
      </p:sp>
      <p:pic>
        <p:nvPicPr>
          <p:cNvPr id="42" name="Picture 10" descr="READYppt_slide_logo.jpg"/>
          <p:cNvPicPr/>
          <p:nvPr/>
        </p:nvPicPr>
        <p:blipFill>
          <a:blip r:embed="rId3"/>
          <a:stretch/>
        </p:blipFill>
        <p:spPr>
          <a:xfrm>
            <a:off x="7162920" y="254160"/>
            <a:ext cx="838080" cy="874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12"/>
          <p:cNvSpPr/>
          <p:nvPr/>
        </p:nvSpPr>
        <p:spPr>
          <a:xfrm>
            <a:off x="309600" y="304920"/>
            <a:ext cx="5938920" cy="5849640"/>
          </a:xfrm>
          <a:prstGeom prst="rect">
            <a:avLst/>
          </a:prstGeom>
          <a:solidFill>
            <a:srgbClr val="e783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533160" y="304560"/>
            <a:ext cx="563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Straight Connector 15"/>
          <p:cNvSpPr/>
          <p:nvPr/>
        </p:nvSpPr>
        <p:spPr>
          <a:xfrm>
            <a:off x="380880" y="1447920"/>
            <a:ext cx="586764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6" descr="READYppt_slid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12"/>
          <p:cNvSpPr/>
          <p:nvPr/>
        </p:nvSpPr>
        <p:spPr>
          <a:xfrm flipH="1">
            <a:off x="304200" y="1447920"/>
            <a:ext cx="2514600" cy="4706640"/>
          </a:xfrm>
          <a:prstGeom prst="rect">
            <a:avLst/>
          </a:prstGeom>
          <a:solidFill>
            <a:srgbClr val="e783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74674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63554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2819160" y="1600200"/>
            <a:ext cx="60195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63554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63554c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63554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  <a:p>
            <a:pPr lvl="3" marL="1536120" indent="-219240">
              <a:spcBef>
                <a:spcPts val="799"/>
              </a:spcBef>
              <a:buClr>
                <a:srgbClr val="63554c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  <a:p>
            <a:pPr lvl="4" marL="1974960" indent="-219240">
              <a:spcBef>
                <a:spcPts val="799"/>
              </a:spcBef>
              <a:buClr>
                <a:srgbClr val="63554c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6" descr="READYppt_slid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11"/>
          <p:cNvSpPr/>
          <p:nvPr/>
        </p:nvSpPr>
        <p:spPr>
          <a:xfrm>
            <a:off x="76320" y="76320"/>
            <a:ext cx="8991360" cy="609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body"/>
          </p:nvPr>
        </p:nvSpPr>
        <p:spPr>
          <a:xfrm>
            <a:off x="6324120" y="1371240"/>
            <a:ext cx="2514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spcBef>
                <a:spcPts val="499"/>
              </a:spcBef>
              <a:buClr>
                <a:srgbClr val="63554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54c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63554c"/>
              </a:solidFill>
              <a:latin typeface="Arial"/>
            </a:endParaRPr>
          </a:p>
          <a:p>
            <a:pPr lvl="1" marL="579240" indent="-222840">
              <a:spcBef>
                <a:spcPts val="499"/>
              </a:spcBef>
              <a:buClr>
                <a:srgbClr val="63554c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54c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63554c"/>
              </a:solidFill>
              <a:latin typeface="Arial"/>
            </a:endParaRPr>
          </a:p>
          <a:p>
            <a:pPr lvl="2" marL="891360" indent="-178200">
              <a:spcBef>
                <a:spcPts val="499"/>
              </a:spcBef>
              <a:buClr>
                <a:srgbClr val="63554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54c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63554c"/>
              </a:solidFill>
              <a:latin typeface="Arial"/>
            </a:endParaRPr>
          </a:p>
          <a:p>
            <a:pPr lvl="3" marL="1248120" indent="-178200">
              <a:spcBef>
                <a:spcPts val="499"/>
              </a:spcBef>
              <a:buClr>
                <a:srgbClr val="63554c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54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63554c"/>
              </a:solidFill>
              <a:latin typeface="Arial"/>
            </a:endParaRPr>
          </a:p>
          <a:p>
            <a:pPr lvl="4" marL="1604520" indent="-178200">
              <a:spcBef>
                <a:spcPts val="499"/>
              </a:spcBef>
              <a:buClr>
                <a:srgbClr val="63554c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54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63554c"/>
              </a:solidFill>
              <a:latin typeface="Arial"/>
            </a:endParaRPr>
          </a:p>
          <a:p>
            <a:pPr lvl="5" marL="1604520" indent="-1782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54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63554c"/>
              </a:solidFill>
              <a:latin typeface="Arial"/>
            </a:endParaRPr>
          </a:p>
          <a:p>
            <a:pPr lvl="6" marL="1604520" indent="-1782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54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63554c"/>
              </a:solidFill>
              <a:latin typeface="Arial"/>
            </a:endParaRPr>
          </a:p>
        </p:txBody>
      </p:sp>
      <p:pic>
        <p:nvPicPr>
          <p:cNvPr id="125" name="Picture 10" descr="READYppt_slide_logo.jpg"/>
          <p:cNvPicPr/>
          <p:nvPr/>
        </p:nvPicPr>
        <p:blipFill>
          <a:blip r:embed="rId3"/>
          <a:stretch/>
        </p:blipFill>
        <p:spPr>
          <a:xfrm>
            <a:off x="7162920" y="254160"/>
            <a:ext cx="838080" cy="87444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12"/>
          <p:cNvSpPr/>
          <p:nvPr/>
        </p:nvSpPr>
        <p:spPr>
          <a:xfrm>
            <a:off x="309600" y="304920"/>
            <a:ext cx="5938920" cy="5849640"/>
          </a:xfrm>
          <a:prstGeom prst="rect">
            <a:avLst/>
          </a:prstGeom>
          <a:solidFill>
            <a:srgbClr val="73b6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title"/>
          </p:nvPr>
        </p:nvSpPr>
        <p:spPr>
          <a:xfrm>
            <a:off x="533160" y="304560"/>
            <a:ext cx="563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Straight Connector 13"/>
          <p:cNvSpPr/>
          <p:nvPr/>
        </p:nvSpPr>
        <p:spPr>
          <a:xfrm>
            <a:off x="380880" y="1447920"/>
            <a:ext cx="586764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6" descr="READYppt_slid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12"/>
          <p:cNvSpPr/>
          <p:nvPr/>
        </p:nvSpPr>
        <p:spPr>
          <a:xfrm flipH="1">
            <a:off x="304200" y="1447920"/>
            <a:ext cx="2514600" cy="4706640"/>
          </a:xfrm>
          <a:prstGeom prst="rect">
            <a:avLst/>
          </a:prstGeom>
          <a:solidFill>
            <a:srgbClr val="73b6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74674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63554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2819160" y="1600200"/>
            <a:ext cx="60195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63554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63554c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63554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  <a:p>
            <a:pPr lvl="3" marL="1536120" indent="-219240">
              <a:spcBef>
                <a:spcPts val="799"/>
              </a:spcBef>
              <a:buClr>
                <a:srgbClr val="63554c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  <a:p>
            <a:pPr lvl="4" marL="1974960" indent="-219240">
              <a:spcBef>
                <a:spcPts val="799"/>
              </a:spcBef>
              <a:buClr>
                <a:srgbClr val="63554c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4" descr="READYppt_title_2.jpg"/>
          <p:cNvPicPr/>
          <p:nvPr/>
        </p:nvPicPr>
        <p:blipFill>
          <a:blip r:embed="rId2"/>
          <a:srcRect l="0" t="70499" r="0" b="0"/>
          <a:stretch/>
        </p:blipFill>
        <p:spPr>
          <a:xfrm>
            <a:off x="0" y="4834080"/>
            <a:ext cx="9144000" cy="202392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5" descr="READYppt_title_2.jpg"/>
          <p:cNvPicPr/>
          <p:nvPr/>
        </p:nvPicPr>
        <p:blipFill>
          <a:blip r:embed="rId3"/>
          <a:srcRect l="0" t="0" r="75465" b="65927"/>
          <a:stretch/>
        </p:blipFill>
        <p:spPr>
          <a:xfrm>
            <a:off x="0" y="0"/>
            <a:ext cx="2243160" cy="233676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3554c"/>
                </a:solidFill>
                <a:latin typeface="Arial Bold"/>
              </a:rPr>
              <a:t>Click to edit the title text format</a:t>
            </a: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304920" y="1523880"/>
            <a:ext cx="85341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2401"/>
              </a:spcBef>
              <a:buClr>
                <a:srgbClr val="6355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  <a:p>
            <a:pPr lvl="1" marL="631440" indent="-242640">
              <a:spcBef>
                <a:spcPts val="2401"/>
              </a:spcBef>
              <a:buClr>
                <a:srgbClr val="63554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  <a:p>
            <a:pPr lvl="2" marL="922680" indent="-194040">
              <a:spcBef>
                <a:spcPts val="2401"/>
              </a:spcBef>
              <a:buClr>
                <a:srgbClr val="6355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  <a:p>
            <a:pPr lvl="3" marL="1214280" indent="-194040">
              <a:spcBef>
                <a:spcPts val="2401"/>
              </a:spcBef>
              <a:buClr>
                <a:srgbClr val="63554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  <a:p>
            <a:pPr lvl="4" marL="1505520" indent="-194040">
              <a:spcBef>
                <a:spcPts val="2401"/>
              </a:spcBef>
              <a:buClr>
                <a:srgbClr val="63554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  <a:p>
            <a:pPr lvl="5" marL="1505520" indent="-194040">
              <a:spcBef>
                <a:spcPts val="24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  <a:p>
            <a:pPr lvl="6" marL="1505520" indent="-194040">
              <a:spcBef>
                <a:spcPts val="24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1" descr="READYppt_slid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3554c"/>
                </a:solidFill>
                <a:latin typeface="Arial Bold"/>
              </a:rPr>
              <a:t>Click to edit the title text format</a:t>
            </a: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304920" y="1523880"/>
            <a:ext cx="85341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2401"/>
              </a:spcBef>
              <a:buClr>
                <a:srgbClr val="6355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  <a:p>
            <a:pPr lvl="1" marL="631440" indent="-242640">
              <a:spcBef>
                <a:spcPts val="2401"/>
              </a:spcBef>
              <a:buClr>
                <a:srgbClr val="63554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  <a:p>
            <a:pPr lvl="2" marL="922680" indent="-194040">
              <a:spcBef>
                <a:spcPts val="2401"/>
              </a:spcBef>
              <a:buClr>
                <a:srgbClr val="6355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  <a:p>
            <a:pPr lvl="3" marL="1214280" indent="-194040">
              <a:spcBef>
                <a:spcPts val="2401"/>
              </a:spcBef>
              <a:buClr>
                <a:srgbClr val="63554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  <a:p>
            <a:pPr lvl="4" marL="1505520" indent="-194040">
              <a:spcBef>
                <a:spcPts val="2401"/>
              </a:spcBef>
              <a:buClr>
                <a:srgbClr val="63554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  <a:p>
            <a:pPr lvl="5" marL="1505520" indent="-194040">
              <a:spcBef>
                <a:spcPts val="24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  <a:p>
            <a:pPr lvl="6" marL="1505520" indent="-194040">
              <a:spcBef>
                <a:spcPts val="24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6E6D6-DCB1-4B24-B58E-8D515661EA4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positiveschoolculture.wikispaces.com/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mailto:Frances.harrisburke@dpi.nc.gov" TargetMode="External"/><Relationship Id="rId2" Type="http://schemas.openxmlformats.org/officeDocument/2006/relationships/hyperlink" Target="mailto:Jan.king@dpi.nc.gov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/>
          </p:nvPr>
        </p:nvSpPr>
        <p:spPr>
          <a:xfrm>
            <a:off x="2057040" y="1295280"/>
            <a:ext cx="65530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3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3554c"/>
                </a:solidFill>
                <a:latin typeface="Arial"/>
              </a:rPr>
              <a:t>Voices from the Field:</a:t>
            </a:r>
            <a:endParaRPr b="0" lang="en-US" sz="4400" spc="-1" strike="noStrike">
              <a:solidFill>
                <a:srgbClr val="63554c"/>
              </a:solidFill>
              <a:latin typeface="Arial"/>
            </a:endParaRPr>
          </a:p>
          <a:p>
            <a:pPr indent="0" algn="ctr">
              <a:spcBef>
                <a:spcPts val="3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3554c"/>
                </a:solidFill>
                <a:latin typeface="Arial"/>
              </a:rPr>
              <a:t>Maintain a Positive School Culture</a:t>
            </a:r>
            <a:endParaRPr b="0" lang="en-US" sz="4400" spc="-1" strike="noStrike">
              <a:solidFill>
                <a:srgbClr val="63554c"/>
              </a:solidFill>
              <a:latin typeface="Arial"/>
            </a:endParaRPr>
          </a:p>
          <a:p>
            <a:pPr indent="0" algn="ctr">
              <a:spcBef>
                <a:spcPts val="27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3554c"/>
                </a:solidFill>
                <a:latin typeface="Arial"/>
              </a:rPr>
              <a:t>March 25, 2013</a:t>
            </a:r>
            <a:endParaRPr b="0" lang="en-US" sz="3600" spc="-1" strike="noStrike">
              <a:solidFill>
                <a:srgbClr val="63554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3554c"/>
                </a:solidFill>
                <a:latin typeface="Arial Bold"/>
              </a:rPr>
              <a:t>Turn and Talk</a:t>
            </a: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304920" y="1600200"/>
            <a:ext cx="8534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6355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What did you hear?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6355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6355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What did you take away?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6355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3554c"/>
                </a:solidFill>
                <a:latin typeface="Arial Bold"/>
              </a:rPr>
              <a:t>Dana Elementary School</a:t>
            </a: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304920" y="1523880"/>
            <a:ext cx="8534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6355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Principal Kelly Schofield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6355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SIT Chair Kristin Walter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6355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Region 8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6355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Henderson County Schools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6355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2012 National Distinguished School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6355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Dana, NC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6355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pic>
        <p:nvPicPr>
          <p:cNvPr id="320" name="Picture 1" descr="CCSA Dana.tiff"/>
          <p:cNvPicPr/>
          <p:nvPr/>
        </p:nvPicPr>
        <p:blipFill>
          <a:blip r:embed="rId1"/>
          <a:stretch/>
        </p:blipFill>
        <p:spPr>
          <a:xfrm>
            <a:off x="4038480" y="2971800"/>
            <a:ext cx="4699080" cy="74916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2" descr="CCSA Dana 2.tiff"/>
          <p:cNvPicPr/>
          <p:nvPr/>
        </p:nvPicPr>
        <p:blipFill>
          <a:blip r:embed="rId2"/>
          <a:stretch/>
        </p:blipFill>
        <p:spPr>
          <a:xfrm>
            <a:off x="6019920" y="1600200"/>
            <a:ext cx="1955520" cy="12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3554c"/>
                </a:solidFill>
                <a:latin typeface="Arial Bold"/>
              </a:rPr>
              <a:t>Turn and Talk</a:t>
            </a: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304920" y="1523880"/>
            <a:ext cx="8534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6355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What did you hear?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6355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6355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What did you take away?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3554c"/>
                </a:solidFill>
                <a:latin typeface="Arial Bold"/>
              </a:rPr>
              <a:t>Oak Hill Elementary School</a:t>
            </a: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04920" y="1523880"/>
            <a:ext cx="8534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6355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Principal Ashton Clemmons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6355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Region 5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6355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Guilford Public Schools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6355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High Point, NC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pic>
        <p:nvPicPr>
          <p:cNvPr id="326" name="Picture 1" descr="Oak Hill.tiff"/>
          <p:cNvPicPr/>
          <p:nvPr/>
        </p:nvPicPr>
        <p:blipFill>
          <a:blip r:embed="rId1"/>
          <a:stretch/>
        </p:blipFill>
        <p:spPr>
          <a:xfrm>
            <a:off x="5638680" y="3124080"/>
            <a:ext cx="283068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3554c"/>
                </a:solidFill>
                <a:latin typeface="Arial Bold"/>
              </a:rPr>
              <a:t>Turn and Talk</a:t>
            </a: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04920" y="1523880"/>
            <a:ext cx="8534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6355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What did you hear?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6355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6355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What did you take away?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/>
          </p:nvPr>
        </p:nvSpPr>
        <p:spPr>
          <a:xfrm>
            <a:off x="2286000" y="837720"/>
            <a:ext cx="640080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3554c"/>
                </a:solidFill>
                <a:latin typeface="Arial"/>
              </a:rPr>
              <a:t>Break time</a:t>
            </a:r>
            <a:endParaRPr b="0" lang="en-US" sz="4400" spc="-1" strike="noStrike">
              <a:solidFill>
                <a:srgbClr val="63554c"/>
              </a:solidFill>
              <a:latin typeface="Arial"/>
            </a:endParaRPr>
          </a:p>
        </p:txBody>
      </p:sp>
      <p:pic>
        <p:nvPicPr>
          <p:cNvPr id="330" name="Picture 2" descr="clock.jpg"/>
          <p:cNvPicPr/>
          <p:nvPr/>
        </p:nvPicPr>
        <p:blipFill>
          <a:blip r:embed="rId1"/>
          <a:stretch/>
        </p:blipFill>
        <p:spPr>
          <a:xfrm>
            <a:off x="5334120" y="1676520"/>
            <a:ext cx="2471760" cy="3657600"/>
          </a:xfrm>
          <a:prstGeom prst="rect">
            <a:avLst/>
          </a:prstGeom>
          <a:ln w="0">
            <a:noFill/>
          </a:ln>
        </p:spPr>
      </p:pic>
      <p:sp>
        <p:nvSpPr>
          <p:cNvPr id="331" name="TextBox 3"/>
          <p:cNvSpPr/>
          <p:nvPr/>
        </p:nvSpPr>
        <p:spPr>
          <a:xfrm>
            <a:off x="1295280" y="2895480"/>
            <a:ext cx="3581640" cy="119124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ef6f1"/>
                </a:solidFill>
                <a:latin typeface="Arial"/>
              </a:rPr>
              <a:t>See you back in 15 minu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3554c"/>
                </a:solidFill>
                <a:latin typeface="Arial Bold"/>
              </a:rPr>
              <a:t>Stories Creek Elementary School</a:t>
            </a: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04920" y="1523880"/>
            <a:ext cx="8534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6355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Victoria Clay, Principal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6355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Tara Holmes, Teacher Leader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6355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Region 5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6355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Person County Schools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6355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2012 National Distinguished School 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6355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Roxboro, NC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pic>
        <p:nvPicPr>
          <p:cNvPr id="334" name="Picture 1" descr="Stories Creek 2.tiff"/>
          <p:cNvPicPr/>
          <p:nvPr/>
        </p:nvPicPr>
        <p:blipFill>
          <a:blip r:embed="rId1"/>
          <a:stretch/>
        </p:blipFill>
        <p:spPr>
          <a:xfrm>
            <a:off x="7238880" y="4114800"/>
            <a:ext cx="1770120" cy="185436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2" descr="Stories Creek.tiff"/>
          <p:cNvPicPr/>
          <p:nvPr/>
        </p:nvPicPr>
        <p:blipFill>
          <a:blip r:embed="rId2"/>
          <a:stretch/>
        </p:blipFill>
        <p:spPr>
          <a:xfrm>
            <a:off x="2971800" y="3048120"/>
            <a:ext cx="5985000" cy="67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3554c"/>
                </a:solidFill>
                <a:latin typeface="Arial Bold"/>
              </a:rPr>
              <a:t>Turn and Talk</a:t>
            </a: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304920" y="1523880"/>
            <a:ext cx="8534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6355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What did you hear?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6355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6355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What did you take away? 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3554c"/>
                </a:solidFill>
                <a:latin typeface="Arial Bold"/>
              </a:rPr>
              <a:t>East Rutherford High School</a:t>
            </a: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304920" y="1523880"/>
            <a:ext cx="8534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6355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Brad Teague, Principal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6355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Kim Carpenter, ITF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6355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Region 8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6355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Rutherford County Schools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6355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NASSP Principal of the Year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6355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Forest City, NC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6355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pic>
        <p:nvPicPr>
          <p:cNvPr id="340" name="Picture 1" descr="ER logo.tiff"/>
          <p:cNvPicPr/>
          <p:nvPr/>
        </p:nvPicPr>
        <p:blipFill>
          <a:blip r:embed="rId1"/>
          <a:stretch/>
        </p:blipFill>
        <p:spPr>
          <a:xfrm>
            <a:off x="4267080" y="5257800"/>
            <a:ext cx="4381560" cy="85104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2" descr="East R crest.tiff"/>
          <p:cNvPicPr/>
          <p:nvPr/>
        </p:nvPicPr>
        <p:blipFill>
          <a:blip r:embed="rId2"/>
          <a:stretch/>
        </p:blipFill>
        <p:spPr>
          <a:xfrm>
            <a:off x="5943600" y="2666880"/>
            <a:ext cx="2438280" cy="173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3554c"/>
                </a:solidFill>
                <a:latin typeface="Arial Bold"/>
              </a:rPr>
              <a:t>Turn and Talk</a:t>
            </a: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304920" y="1523880"/>
            <a:ext cx="8534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6355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What did you hear?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6355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6355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What did you take away? 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3554c"/>
                </a:solidFill>
                <a:latin typeface="Arial Bold"/>
              </a:rPr>
              <a:t>Go to Wikispace</a:t>
            </a:r>
            <a:br>
              <a:rPr sz="3600"/>
            </a:b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04560" y="1523520"/>
            <a:ext cx="8458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6355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Open the wikispace for the workshop materials:  </a:t>
            </a:r>
            <a:r>
              <a:rPr b="0" lang="en-US" sz="3200" spc="-1" strike="noStrike" u="sng">
                <a:solidFill>
                  <a:srgbClr val="0066cc"/>
                </a:solidFill>
                <a:uFillTx/>
                <a:latin typeface="Arial"/>
                <a:hlinkClick r:id="rId1"/>
              </a:rPr>
              <a:t>http://positiveschoolculture.wikispaces.com/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pic>
        <p:nvPicPr>
          <p:cNvPr id="297" name="Picture 1" descr="Wiki screen shot CCSA.tiff"/>
          <p:cNvPicPr/>
          <p:nvPr/>
        </p:nvPicPr>
        <p:blipFill>
          <a:blip r:embed="rId2"/>
          <a:stretch/>
        </p:blipFill>
        <p:spPr>
          <a:xfrm>
            <a:off x="1384200" y="3681360"/>
            <a:ext cx="5918400" cy="45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3554c"/>
                </a:solidFill>
                <a:latin typeface="Arial Bold"/>
              </a:rPr>
              <a:t>NC Teacher Working Conditions</a:t>
            </a: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pic>
        <p:nvPicPr>
          <p:cNvPr id="345" name="Content Placeholder 3" descr="TWC screen shot.tiff"/>
          <p:cNvPicPr/>
          <p:nvPr/>
        </p:nvPicPr>
        <p:blipFill>
          <a:blip r:embed="rId1"/>
          <a:srcRect l="0" t="-74084" r="0" b="-74084"/>
          <a:stretch/>
        </p:blipFill>
        <p:spPr>
          <a:xfrm>
            <a:off x="304920" y="838080"/>
            <a:ext cx="8534160" cy="4572000"/>
          </a:xfrm>
          <a:prstGeom prst="rect">
            <a:avLst/>
          </a:prstGeom>
          <a:ln w="0">
            <a:noFill/>
          </a:ln>
        </p:spPr>
      </p:pic>
      <p:sp>
        <p:nvSpPr>
          <p:cNvPr id="346" name="TextBox 4"/>
          <p:cNvSpPr/>
          <p:nvPr/>
        </p:nvSpPr>
        <p:spPr>
          <a:xfrm>
            <a:off x="1981080" y="4800600"/>
            <a:ext cx="5943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cteachingconditions.or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3554c"/>
                </a:solidFill>
                <a:latin typeface="Arial Bold"/>
              </a:rPr>
              <a:t>What did they say?</a:t>
            </a: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04920" y="1523880"/>
            <a:ext cx="8229600" cy="24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algn="ctr">
              <a:spcBef>
                <a:spcPts val="3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3554c"/>
                </a:solidFill>
                <a:latin typeface="Arial"/>
              </a:rPr>
              <a:t>In this school,</a:t>
            </a:r>
            <a:endParaRPr b="0" lang="en-US" sz="4400" spc="-1" strike="noStrike">
              <a:solidFill>
                <a:srgbClr val="63554c"/>
              </a:solidFill>
              <a:latin typeface="Arial"/>
            </a:endParaRPr>
          </a:p>
          <a:p>
            <a:pPr algn="ctr">
              <a:spcBef>
                <a:spcPts val="3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3554c"/>
                </a:solidFill>
                <a:latin typeface="Arial"/>
              </a:rPr>
              <a:t>we take steps to</a:t>
            </a:r>
            <a:endParaRPr b="0" lang="en-US" sz="4400" spc="-1" strike="noStrike">
              <a:solidFill>
                <a:srgbClr val="63554c"/>
              </a:solidFill>
              <a:latin typeface="Arial"/>
            </a:endParaRPr>
          </a:p>
          <a:p>
            <a:pPr algn="ctr">
              <a:spcBef>
                <a:spcPts val="3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3554c"/>
                </a:solidFill>
                <a:latin typeface="Arial"/>
              </a:rPr>
              <a:t>resolve problems.</a:t>
            </a:r>
            <a:endParaRPr b="0" lang="en-US" sz="44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349" name="TextBox 3"/>
          <p:cNvSpPr/>
          <p:nvPr/>
        </p:nvSpPr>
        <p:spPr>
          <a:xfrm>
            <a:off x="2743200" y="4800600"/>
            <a:ext cx="3581280" cy="10994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2.6%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3554c"/>
                </a:solidFill>
                <a:latin typeface="Arial Bold"/>
              </a:rPr>
              <a:t>What did they say?</a:t>
            </a: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304920" y="1523880"/>
            <a:ext cx="8229600" cy="24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3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3554c"/>
                </a:solidFill>
                <a:latin typeface="Arial"/>
              </a:rPr>
              <a:t>There is an atmosphere of trust and mutual respect in this school.</a:t>
            </a:r>
            <a:endParaRPr b="0" lang="en-US" sz="44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352" name="TextBox 3"/>
          <p:cNvSpPr/>
          <p:nvPr/>
        </p:nvSpPr>
        <p:spPr>
          <a:xfrm>
            <a:off x="2743200" y="4800600"/>
            <a:ext cx="3581280" cy="10994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2.2%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3554c"/>
                </a:solidFill>
                <a:latin typeface="Arial Bold"/>
              </a:rPr>
              <a:t>What did they say?</a:t>
            </a: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304920" y="1523880"/>
            <a:ext cx="8229600" cy="24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3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3554c"/>
                </a:solidFill>
                <a:latin typeface="Arial"/>
              </a:rPr>
              <a:t>Teachers feel comfortable raising issues and concerns that are important to them.</a:t>
            </a:r>
            <a:endParaRPr b="0" lang="en-US" sz="44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355" name="TextBox 3"/>
          <p:cNvSpPr/>
          <p:nvPr/>
        </p:nvSpPr>
        <p:spPr>
          <a:xfrm>
            <a:off x="2743200" y="4800600"/>
            <a:ext cx="3581280" cy="10994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0.7%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3554c"/>
                </a:solidFill>
                <a:latin typeface="Arial Bold"/>
              </a:rPr>
              <a:t>What did they say?</a:t>
            </a: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304920" y="1981080"/>
            <a:ext cx="8229600" cy="24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3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3554c"/>
                </a:solidFill>
                <a:latin typeface="Arial"/>
              </a:rPr>
              <a:t>Overall, my school is a good place to work and learn.</a:t>
            </a:r>
            <a:endParaRPr b="0" lang="en-US" sz="44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358" name="TextBox 3"/>
          <p:cNvSpPr/>
          <p:nvPr/>
        </p:nvSpPr>
        <p:spPr>
          <a:xfrm>
            <a:off x="2743200" y="4800600"/>
            <a:ext cx="3581280" cy="10994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4.6%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3"/>
          <p:cNvSpPr/>
          <p:nvPr/>
        </p:nvSpPr>
        <p:spPr>
          <a:xfrm>
            <a:off x="533520" y="1905120"/>
            <a:ext cx="8001000" cy="38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leader is one wh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knows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he way,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es the way, an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ows the way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John C. Max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3"/>
          <p:cNvSpPr/>
          <p:nvPr/>
        </p:nvSpPr>
        <p:spPr>
          <a:xfrm>
            <a:off x="533520" y="1905120"/>
            <a:ext cx="8001000" cy="38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leader is one wh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nows the way,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goes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he way, an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ows the way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John C. Max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3"/>
          <p:cNvSpPr/>
          <p:nvPr/>
        </p:nvSpPr>
        <p:spPr>
          <a:xfrm>
            <a:off x="533520" y="1905120"/>
            <a:ext cx="8001000" cy="38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leader is one wh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nows the way,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es the way, an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hows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he way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John C. Max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3554c"/>
                </a:solidFill>
                <a:latin typeface="Arial Bold"/>
              </a:rPr>
              <a:t>Theatre of Voices </a:t>
            </a: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-360" y="144792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3554c"/>
                </a:solidFill>
                <a:uFillTx/>
                <a:latin typeface="Arial"/>
              </a:rPr>
              <a:t>If you Don</a:t>
            </a:r>
            <a:r>
              <a:rPr b="0" lang="ja-JP" sz="3200" spc="-1" strike="noStrike" u="sng">
                <a:solidFill>
                  <a:srgbClr val="63554c"/>
                </a:solidFill>
                <a:uFillTx/>
                <a:latin typeface="Arial"/>
              </a:rPr>
              <a:t>’</a:t>
            </a:r>
            <a:r>
              <a:rPr b="0" lang="en-US" sz="3200" spc="-1" strike="noStrike" u="sng">
                <a:solidFill>
                  <a:srgbClr val="63554c"/>
                </a:solidFill>
                <a:uFillTx/>
                <a:latin typeface="Arial"/>
              </a:rPr>
              <a:t>t Feed the Teachers, They Eat the Students! Guide to Success for Administrators and Teachers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  <a:p>
            <a:pPr>
              <a:spcBef>
                <a:spcPts val="2401"/>
              </a:spcBef>
              <a:buClr>
                <a:srgbClr val="6355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  <a:p>
            <a:pPr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Author Neila A. Connors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3554c"/>
                </a:solidFill>
                <a:latin typeface="Arial Bold"/>
              </a:rPr>
              <a:t>Contact Information</a:t>
            </a: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304920" y="1523880"/>
            <a:ext cx="8534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Dr. Frances Harris-Burke, 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  <a:p>
            <a:pPr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Regional Lead – Region  5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  <a:p>
            <a:pPr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Arial"/>
                <a:hlinkClick r:id="rId1"/>
              </a:rPr>
              <a:t>Frances.harrisburke@dpi.nc.gov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  <a:p>
            <a:pPr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  <a:p>
            <a:pPr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Jan King, Regional Lead – Region 7/8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  <a:p>
            <a:pPr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Arial"/>
                <a:hlinkClick r:id="rId2"/>
              </a:rPr>
              <a:t>Jan.king@dpi.nc.gov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  <a:p>
            <a:pPr>
              <a:spcBef>
                <a:spcPts val="2401"/>
              </a:spcBef>
              <a:buClr>
                <a:srgbClr val="6355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 txBox="1"/>
          <p:nvPr/>
        </p:nvSpPr>
        <p:spPr>
          <a:xfrm>
            <a:off x="304920" y="1600200"/>
            <a:ext cx="8534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	</a:t>
            </a:r>
            <a:r>
              <a:rPr b="0" i="1" lang="ja-JP" sz="3200" spc="-1" strike="noStrike">
                <a:solidFill>
                  <a:srgbClr val="63554c"/>
                </a:solidFill>
                <a:latin typeface="Arial"/>
              </a:rPr>
              <a:t>“</a:t>
            </a:r>
            <a:r>
              <a:rPr b="0" i="1" lang="en-US" sz="3200" spc="-1" strike="noStrike">
                <a:solidFill>
                  <a:srgbClr val="63554c"/>
                </a:solidFill>
                <a:latin typeface="Arial"/>
              </a:rPr>
              <a:t>Every public school student will graduate from high school, globally competitive for work and postsecondary education and prepared for life in the 21st Century.</a:t>
            </a:r>
            <a:r>
              <a:rPr b="0" i="1" lang="ja-JP" sz="3200" spc="-1" strike="noStrike">
                <a:solidFill>
                  <a:srgbClr val="63554c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299" name="TextBox 1"/>
          <p:cNvSpPr/>
          <p:nvPr/>
        </p:nvSpPr>
        <p:spPr>
          <a:xfrm>
            <a:off x="533520" y="743040"/>
            <a:ext cx="739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Arial"/>
                <a:ea typeface="MS PGothic"/>
              </a:rPr>
              <a:t>NC State Board of Education Mi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554c"/>
                </a:solidFill>
                <a:latin typeface="Arial Bold"/>
              </a:rPr>
              <a:t>Outcomes:</a:t>
            </a:r>
            <a:endParaRPr b="1" lang="en-US" sz="40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533160" y="1447560"/>
            <a:ext cx="83055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6355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3554c"/>
                </a:solidFill>
                <a:latin typeface="Arial"/>
              </a:rPr>
              <a:t>Define practices for maintaining a k-12 positive school culture;</a:t>
            </a:r>
            <a:endParaRPr b="0" lang="en-US" sz="2800" spc="-1" strike="noStrike">
              <a:solidFill>
                <a:srgbClr val="63554c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6355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3554c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6355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3554c"/>
                </a:solidFill>
                <a:latin typeface="Arial"/>
              </a:rPr>
              <a:t>Gain an understanding on how award winning educators have implemented these practices in their schools; </a:t>
            </a:r>
            <a:endParaRPr b="0" lang="en-US" sz="2800" spc="-1" strike="noStrike">
              <a:solidFill>
                <a:srgbClr val="63554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076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95959"/>
                </a:solidFill>
                <a:latin typeface="Arial Bold"/>
              </a:rPr>
              <a:t>Can We Agree?</a:t>
            </a: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303" name="Rectangle 3"/>
          <p:cNvSpPr/>
          <p:nvPr/>
        </p:nvSpPr>
        <p:spPr>
          <a:xfrm>
            <a:off x="533520" y="1523880"/>
            <a:ext cx="8229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95959"/>
                </a:solidFill>
                <a:latin typeface="Arial"/>
              </a:rPr>
              <a:t>To be actively involv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95959"/>
                </a:solidFill>
                <a:latin typeface="Arial"/>
              </a:rPr>
              <a:t>Value differen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95959"/>
                </a:solidFill>
                <a:latin typeface="Arial"/>
              </a:rPr>
              <a:t>Agree to disagre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95959"/>
                </a:solidFill>
                <a:latin typeface="Arial"/>
              </a:rPr>
              <a:t>List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Picture 2" descr=""/>
          <p:cNvPicPr/>
          <p:nvPr/>
        </p:nvPicPr>
        <p:blipFill>
          <a:blip r:embed="rId1"/>
          <a:stretch/>
        </p:blipFill>
        <p:spPr>
          <a:xfrm>
            <a:off x="4876920" y="3660840"/>
            <a:ext cx="3549600" cy="182088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2000" fill="hold"/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2000" fill="hold"/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2000" fill="hold"/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2000" fill="hold"/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2000" fill="hold"/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2000" fill="hold"/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3554c"/>
                </a:solidFill>
                <a:latin typeface="Arial Bold"/>
              </a:rPr>
              <a:t>Cultural Leadership  Wordle </a:t>
            </a: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pic>
        <p:nvPicPr>
          <p:cNvPr id="306" name="Content Placeholder 1" descr="CCSA Wordle.tiff"/>
          <p:cNvPicPr/>
          <p:nvPr/>
        </p:nvPicPr>
        <p:blipFill>
          <a:blip r:embed="rId1"/>
          <a:srcRect l="0" t="-6982" r="0" b="-6982"/>
          <a:stretch/>
        </p:blipFill>
        <p:spPr>
          <a:xfrm>
            <a:off x="152280" y="1523880"/>
            <a:ext cx="87631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3554c"/>
                </a:solidFill>
                <a:latin typeface="Arial Bold"/>
              </a:rPr>
              <a:t>Dufour quote</a:t>
            </a: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04920" y="1523880"/>
            <a:ext cx="8534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3554c"/>
                </a:solidFill>
                <a:latin typeface="Times New Roman"/>
                <a:ea typeface="Times New Roman"/>
              </a:rPr>
              <a:t>“</a:t>
            </a:r>
            <a:r>
              <a:rPr b="1" lang="en-US" sz="3600" spc="-1" strike="noStrike">
                <a:solidFill>
                  <a:srgbClr val="63554c"/>
                </a:solidFill>
                <a:latin typeface="Times New Roman"/>
                <a:ea typeface="Times New Roman"/>
              </a:rPr>
              <a:t>While organizations can pronounce a change in policy or procedure, they cannot proclaim a change in attitudes, beliefs, or behaviors…The concept of changing culture may seem simple enough, but changing culture is not like changing the décor.” </a:t>
            </a:r>
            <a:endParaRPr b="0" lang="en-US" sz="3600" spc="-1" strike="noStrike">
              <a:solidFill>
                <a:srgbClr val="63554c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3554c"/>
                </a:solidFill>
                <a:latin typeface="Arial"/>
              </a:rPr>
              <a:t>Richard DuFour and Robert Eaker (The Leader in Me)</a:t>
            </a:r>
            <a:endParaRPr b="0" lang="en-US" sz="2000" spc="-1" strike="noStrike">
              <a:solidFill>
                <a:srgbClr val="63554c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3554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3554c"/>
                </a:solidFill>
                <a:latin typeface="Arial Bold"/>
              </a:rPr>
              <a:t>What to expect?</a:t>
            </a: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304920" y="1600200"/>
            <a:ext cx="44956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6355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Asheboro City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6355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Henderson County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6355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Guilford County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6355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Person County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6355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Rutherford County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6355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311" name="TextBox 3"/>
          <p:cNvSpPr/>
          <p:nvPr/>
        </p:nvSpPr>
        <p:spPr>
          <a:xfrm flipH="1">
            <a:off x="5180760" y="2514600"/>
            <a:ext cx="3124440" cy="1557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id you hea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id you take awa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3554c"/>
                </a:solidFill>
                <a:latin typeface="Arial Bold"/>
              </a:rPr>
              <a:t>Superintendent</a:t>
            </a:r>
            <a:r>
              <a:rPr b="1" lang="ja-JP" sz="3600" spc="-1" strike="noStrike">
                <a:solidFill>
                  <a:srgbClr val="63554c"/>
                </a:solidFill>
                <a:latin typeface="Arial Bold"/>
              </a:rPr>
              <a:t>’</a:t>
            </a:r>
            <a:r>
              <a:rPr b="1" lang="en-US" sz="3600" spc="-1" strike="noStrike">
                <a:solidFill>
                  <a:srgbClr val="63554c"/>
                </a:solidFill>
                <a:latin typeface="Arial Bold"/>
              </a:rPr>
              <a:t>s View</a:t>
            </a: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304920" y="1523880"/>
            <a:ext cx="8534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6355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Dr. Diane Frost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6355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2012 NC Superintendent of the Year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6355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Region 5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6355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Asheboro City Schools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6355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Asheboro, NC 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pic>
        <p:nvPicPr>
          <p:cNvPr id="314" name="Picture 1" descr="ACS CCSA.tiff"/>
          <p:cNvPicPr/>
          <p:nvPr/>
        </p:nvPicPr>
        <p:blipFill>
          <a:blip r:embed="rId1"/>
          <a:stretch/>
        </p:blipFill>
        <p:spPr>
          <a:xfrm>
            <a:off x="3733920" y="4952880"/>
            <a:ext cx="4838760" cy="69876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2" descr="ACS2 CCSA.tiff"/>
          <p:cNvPicPr/>
          <p:nvPr/>
        </p:nvPicPr>
        <p:blipFill>
          <a:blip r:embed="rId2"/>
          <a:stretch/>
        </p:blipFill>
        <p:spPr>
          <a:xfrm>
            <a:off x="6172200" y="3276720"/>
            <a:ext cx="1231920" cy="12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6T17:35:03Z</dcterms:created>
  <dc:creator>Allison Eargle</dc:creator>
  <dc:description/>
  <dc:language>en-US</dc:language>
  <cp:lastModifiedBy>Jan King</cp:lastModifiedBy>
  <dcterms:modified xsi:type="dcterms:W3CDTF">2013-03-13T16:40:29Z</dcterms:modified>
  <cp:revision>153</cp:revision>
  <dc:subject/>
  <dc:title>PowerPoint Presentation</dc:title>
</cp:coreProperties>
</file>