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move the slide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4E85-F3BA-4CC2-952F-4CE7479FC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3888-3DDB-4448-AD7A-8772F025A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FAA6-D15A-420A-93C8-A9661359F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4D0D-D48B-41CC-9010-82CCFB39B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EFF4-4A89-4DC2-9CB6-0F92D848A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7D31-A771-477F-8E68-46BC6BBB4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C41A-77B7-4C59-B6D4-5AE8F97F3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88BC-F3D5-4B72-B7B5-ED502020D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E123-9791-49DD-9B7B-FAB03B8E0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624E-2EB9-4B2A-BD40-D774C0D89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7E1D-BFB8-4730-837E-911F014C3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925C-8C5A-4F3F-924B-791C5B17A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3A93-8C6F-4C5A-8713-4638E7A35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618B-EF6D-461E-B689-063E08BFD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C642-80FA-4815-8AA7-0E3F45B49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FC7D-2816-46AC-B894-AE3E4A80E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A319-B7B0-4ABF-B0E2-03E92B79B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C364-B6C0-4062-8114-FEBB9705B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44D8-4C25-4EDA-B970-FB4B2C167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1BCF-0F2B-4A16-B3D0-FB913BDB8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F017-6694-423C-AD7E-4B5BA9119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04C8-F272-42F2-AD1B-93DB0162E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8DFC-4E28-4B0B-A607-BEC37D4CEDC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64B8-34E8-4E5E-98D9-AC29CB86D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F5EE-5AF8-49F3-8768-AC50B4505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0F4F-04E0-4C6C-B417-514BC6974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C1E-922F-43C2-9814-AE70EB5F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9F7-DC8B-45E0-BB12-FBFCB193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73F-3479-41A0-920C-4237FB9C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6EA-BA8B-4DCB-8915-38887534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7D9-D3C2-4E02-80A8-465CA56C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9AC4-8305-4EDF-933A-990E8FAD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0C8-3701-4630-9731-07E13089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D76-86B0-47E5-9C71-895DD6B1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DB2-ED5E-4F84-A22A-E649A0A2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B0A-2E81-40CD-B431-6EC37FD6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304-BDE6-40D8-B558-2BA88479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84E-9721-4E0C-A71B-3685769F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11"/>
          <p:cNvSpPr/>
          <p:nvPr/>
        </p:nvSpPr>
        <p:spPr>
          <a:xfrm>
            <a:off x="76320" y="76320"/>
            <a:ext cx="899136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324120" y="1371240"/>
            <a:ext cx="2514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3" marL="1248120" indent="-17820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4" marL="1604520" indent="-178200">
              <a:spcBef>
                <a:spcPts val="4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5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6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42" name="Picture 10" descr="READYppt_slide_logo.jpg"/>
          <p:cNvPicPr/>
          <p:nvPr/>
        </p:nvPicPr>
        <p:blipFill>
          <a:blip r:embed="rId3"/>
          <a:stretch/>
        </p:blipFill>
        <p:spPr>
          <a:xfrm>
            <a:off x="7162920" y="254160"/>
            <a:ext cx="838080" cy="874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"/>
          <p:cNvSpPr/>
          <p:nvPr/>
        </p:nvSpPr>
        <p:spPr>
          <a:xfrm>
            <a:off x="309600" y="304920"/>
            <a:ext cx="5938920" cy="5849640"/>
          </a:xfrm>
          <a:prstGeom prst="rect">
            <a:avLst/>
          </a:prstGeom>
          <a:solidFill>
            <a:srgbClr val="e78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16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15"/>
          <p:cNvSpPr/>
          <p:nvPr/>
        </p:nvSpPr>
        <p:spPr>
          <a:xfrm>
            <a:off x="380880" y="1447920"/>
            <a:ext cx="5867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2"/>
          <p:cNvSpPr/>
          <p:nvPr/>
        </p:nvSpPr>
        <p:spPr>
          <a:xfrm flipH="1">
            <a:off x="304200" y="1447920"/>
            <a:ext cx="2514600" cy="4706640"/>
          </a:xfrm>
          <a:prstGeom prst="rect">
            <a:avLst/>
          </a:prstGeom>
          <a:solidFill>
            <a:srgbClr val="e78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819160" y="1600200"/>
            <a:ext cx="6019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1"/>
          <p:cNvSpPr/>
          <p:nvPr/>
        </p:nvSpPr>
        <p:spPr>
          <a:xfrm>
            <a:off x="76320" y="76320"/>
            <a:ext cx="899136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324120" y="1371240"/>
            <a:ext cx="2514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3" marL="1248120" indent="-17820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4" marL="1604520" indent="-178200">
              <a:spcBef>
                <a:spcPts val="4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5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6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125" name="Picture 10" descr="READYppt_slide_logo.jpg"/>
          <p:cNvPicPr/>
          <p:nvPr/>
        </p:nvPicPr>
        <p:blipFill>
          <a:blip r:embed="rId3"/>
          <a:stretch/>
        </p:blipFill>
        <p:spPr>
          <a:xfrm>
            <a:off x="7162920" y="254160"/>
            <a:ext cx="838080" cy="8744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2"/>
          <p:cNvSpPr/>
          <p:nvPr/>
        </p:nvSpPr>
        <p:spPr>
          <a:xfrm>
            <a:off x="309600" y="304920"/>
            <a:ext cx="5938920" cy="5849640"/>
          </a:xfrm>
          <a:prstGeom prst="rect">
            <a:avLst/>
          </a:prstGeom>
          <a:solidFill>
            <a:srgbClr val="73b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53316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3"/>
          <p:cNvSpPr/>
          <p:nvPr/>
        </p:nvSpPr>
        <p:spPr>
          <a:xfrm>
            <a:off x="380880" y="1447920"/>
            <a:ext cx="5867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2"/>
          <p:cNvSpPr/>
          <p:nvPr/>
        </p:nvSpPr>
        <p:spPr>
          <a:xfrm flipH="1">
            <a:off x="304200" y="1447920"/>
            <a:ext cx="2514600" cy="4706640"/>
          </a:xfrm>
          <a:prstGeom prst="rect">
            <a:avLst/>
          </a:prstGeom>
          <a:solidFill>
            <a:srgbClr val="73b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819160" y="1600200"/>
            <a:ext cx="6019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READYppt_title_2.jpg"/>
          <p:cNvPicPr/>
          <p:nvPr/>
        </p:nvPicPr>
        <p:blipFill>
          <a:blip r:embed="rId2"/>
          <a:srcRect l="0" t="70499" r="0" b="0"/>
          <a:stretch/>
        </p:blipFill>
        <p:spPr>
          <a:xfrm>
            <a:off x="0" y="4834080"/>
            <a:ext cx="9144000" cy="202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READYppt_title_2.jpg"/>
          <p:cNvPicPr/>
          <p:nvPr/>
        </p:nvPicPr>
        <p:blipFill>
          <a:blip r:embed="rId3"/>
          <a:srcRect l="0" t="0" r="75465" b="65927"/>
          <a:stretch/>
        </p:blipFill>
        <p:spPr>
          <a:xfrm>
            <a:off x="0" y="0"/>
            <a:ext cx="2243160" cy="23367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8CF0-5D7A-49B4-92E8-B4F22AB112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ositiveschoolculture.wikispaces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Frances.harrisburke@dpi.nc.gov" TargetMode="External"/><Relationship Id="rId2" Type="http://schemas.openxmlformats.org/officeDocument/2006/relationships/hyperlink" Target="mailto:Jan.king@dpi.nc.g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2057040" y="1295280"/>
            <a:ext cx="6553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Voices from the Field: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Maintain a Positive School Culture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March 25, 2013</a:t>
            </a:r>
            <a:endParaRPr b="0" lang="en-US" sz="36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Dana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rincipal Kelly Schofield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T Chair Kristin Walte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enderson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ational Distinguished Schoo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ana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20" name="Picture 1" descr="CCSA Dana.tiff"/>
          <p:cNvPicPr/>
          <p:nvPr/>
        </p:nvPicPr>
        <p:blipFill>
          <a:blip r:embed="rId1"/>
          <a:stretch/>
        </p:blipFill>
        <p:spPr>
          <a:xfrm>
            <a:off x="4038480" y="2971800"/>
            <a:ext cx="4699080" cy="749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CCSA Dana 2.tiff"/>
          <p:cNvPicPr/>
          <p:nvPr/>
        </p:nvPicPr>
        <p:blipFill>
          <a:blip r:embed="rId2"/>
          <a:stretch/>
        </p:blipFill>
        <p:spPr>
          <a:xfrm>
            <a:off x="6019920" y="1600200"/>
            <a:ext cx="19555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Oak Hill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rincipal Ashton Clemmon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Guilford Public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igh Point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26" name="Picture 1" descr="Oak Hill.tiff"/>
          <p:cNvPicPr/>
          <p:nvPr/>
        </p:nvPicPr>
        <p:blipFill>
          <a:blip r:embed="rId1"/>
          <a:stretch/>
        </p:blipFill>
        <p:spPr>
          <a:xfrm>
            <a:off x="5638680" y="3124080"/>
            <a:ext cx="2830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286000" y="837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Break time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30" name="Picture 2" descr="clock.jpg"/>
          <p:cNvPicPr/>
          <p:nvPr/>
        </p:nvPicPr>
        <p:blipFill>
          <a:blip r:embed="rId1"/>
          <a:stretch/>
        </p:blipFill>
        <p:spPr>
          <a:xfrm>
            <a:off x="5334120" y="1676520"/>
            <a:ext cx="2471760" cy="36576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3"/>
          <p:cNvSpPr/>
          <p:nvPr/>
        </p:nvSpPr>
        <p:spPr>
          <a:xfrm>
            <a:off x="1295280" y="2895480"/>
            <a:ext cx="358164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Arial"/>
              </a:rPr>
              <a:t>See you back in 15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tories Creek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Victoria Clay, Principa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ara Holmes, Teacher Leade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erson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ational Distinguished School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oxboro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34" name="Picture 1" descr="Stories Creek 2.tiff"/>
          <p:cNvPicPr/>
          <p:nvPr/>
        </p:nvPicPr>
        <p:blipFill>
          <a:blip r:embed="rId1"/>
          <a:stretch/>
        </p:blipFill>
        <p:spPr>
          <a:xfrm>
            <a:off x="7238880" y="4114800"/>
            <a:ext cx="1770120" cy="1854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Stories Creek.tiff"/>
          <p:cNvPicPr/>
          <p:nvPr/>
        </p:nvPicPr>
        <p:blipFill>
          <a:blip r:embed="rId2"/>
          <a:stretch/>
        </p:blipFill>
        <p:spPr>
          <a:xfrm>
            <a:off x="2971800" y="3048120"/>
            <a:ext cx="59850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East Rutherford High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Brad Teague, Principa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Kim Carpenter, ITF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utherford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NASSP Principal of the Yea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rest City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40" name="Picture 1" descr="ER logo.tiff"/>
          <p:cNvPicPr/>
          <p:nvPr/>
        </p:nvPicPr>
        <p:blipFill>
          <a:blip r:embed="rId1"/>
          <a:stretch/>
        </p:blipFill>
        <p:spPr>
          <a:xfrm>
            <a:off x="4267080" y="5257800"/>
            <a:ext cx="4381560" cy="851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East R crest.tiff"/>
          <p:cNvPicPr/>
          <p:nvPr/>
        </p:nvPicPr>
        <p:blipFill>
          <a:blip r:embed="rId2"/>
          <a:stretch/>
        </p:blipFill>
        <p:spPr>
          <a:xfrm>
            <a:off x="5943600" y="2666880"/>
            <a:ext cx="24382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Go to Wikispace</a:t>
            </a:r>
            <a:br>
              <a:rPr sz="3600"/>
            </a:b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560" y="15235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Open the wikispace for the workshop materials: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positiveschoolculture.wikispaces.com/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297" name="Picture 1" descr="Wiki screen shot CCSA.tiff"/>
          <p:cNvPicPr/>
          <p:nvPr/>
        </p:nvPicPr>
        <p:blipFill>
          <a:blip r:embed="rId2"/>
          <a:stretch/>
        </p:blipFill>
        <p:spPr>
          <a:xfrm>
            <a:off x="1384200" y="3681360"/>
            <a:ext cx="59184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NC Teacher Working Conditions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pic>
        <p:nvPicPr>
          <p:cNvPr id="345" name="Content Placeholder 3" descr="TWC screen shot.tiff"/>
          <p:cNvPicPr/>
          <p:nvPr/>
        </p:nvPicPr>
        <p:blipFill>
          <a:blip r:embed="rId1"/>
          <a:srcRect l="0" t="-74084" r="0" b="-74084"/>
          <a:stretch/>
        </p:blipFill>
        <p:spPr>
          <a:xfrm>
            <a:off x="304920" y="838080"/>
            <a:ext cx="8534160" cy="45720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4"/>
          <p:cNvSpPr/>
          <p:nvPr/>
        </p:nvSpPr>
        <p:spPr>
          <a:xfrm>
            <a:off x="1981080" y="48006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cteachingcondition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In this school,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we take steps to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resolve problems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2.6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There is an atmosphere of trust and mutual respect in this school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2.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Teachers feel comfortable raising issues and concerns that are important to them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0.7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981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Overall, my school is a good place to work and learn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4.6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w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s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e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s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w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heatre of Voices 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554c"/>
                </a:solidFill>
                <a:uFillTx/>
                <a:latin typeface="Arial"/>
              </a:rPr>
              <a:t>If you Don</a:t>
            </a:r>
            <a:r>
              <a:rPr b="0" lang="ja-JP" sz="3200" spc="-1" strike="noStrike" u="sng">
                <a:solidFill>
                  <a:srgbClr val="63554c"/>
                </a:solidFill>
                <a:uFillTx/>
                <a:latin typeface="Arial"/>
              </a:rPr>
              <a:t>’</a:t>
            </a:r>
            <a:r>
              <a:rPr b="0" lang="en-US" sz="3200" spc="-1" strike="noStrike" u="sng">
                <a:solidFill>
                  <a:srgbClr val="63554c"/>
                </a:solidFill>
                <a:uFillTx/>
                <a:latin typeface="Arial"/>
              </a:rPr>
              <a:t>t Feed the Teachers, They Eat the Students! Guide to Success for Administrators and Teacher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uthor Neila A. Connor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ontact Information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r. Frances Harris-Burke,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al Lead – Region 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Frances.harrisburke@dpi.nc.gov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Jan King, Regional Lead – Region 7/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Jan.king@dpi.nc.gov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	</a:t>
            </a:r>
            <a:r>
              <a:rPr b="0" i="1" lang="ja-JP" sz="3200" spc="-1" strike="noStrike">
                <a:solidFill>
                  <a:srgbClr val="63554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63554c"/>
                </a:solidFill>
                <a:latin typeface="Arial"/>
              </a:rPr>
              <a:t>Every public school student will graduate from high school, globally competitive for work and postsecondary education and prepared for life in the 21st Century.</a:t>
            </a:r>
            <a:r>
              <a:rPr b="0" i="1" lang="ja-JP" sz="3200" spc="-1" strike="noStrike">
                <a:solidFill>
                  <a:srgbClr val="63554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533520" y="74304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Arial"/>
                <a:ea typeface="MS PGothic"/>
              </a:rPr>
              <a:t>NC State Board of Education 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554c"/>
                </a:solidFill>
                <a:latin typeface="Arial Bold"/>
              </a:rPr>
              <a:t>Outcomes:</a:t>
            </a:r>
            <a:endParaRPr b="1" lang="en-US" sz="40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554c"/>
                </a:solidFill>
                <a:latin typeface="Arial"/>
              </a:rPr>
              <a:t>Define practices for maintaining a k-12 positive school culture;</a:t>
            </a: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554c"/>
                </a:solidFill>
                <a:latin typeface="Arial"/>
              </a:rPr>
              <a:t>Gain an understanding on how award winning educators have implemented these practices in their schools; </a:t>
            </a: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Arial Bold"/>
              </a:rPr>
              <a:t>Can We Agree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533520" y="15238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To be actively inv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Value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Agree to disa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4876920" y="3660840"/>
            <a:ext cx="3549600" cy="1820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ultural Leadership  Wordle 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pic>
        <p:nvPicPr>
          <p:cNvPr id="306" name="Content Placeholder 1" descr="CCSA Wordle.tiff"/>
          <p:cNvPicPr/>
          <p:nvPr/>
        </p:nvPicPr>
        <p:blipFill>
          <a:blip r:embed="rId1"/>
          <a:srcRect l="0" t="-6982" r="0" b="-6982"/>
          <a:stretch/>
        </p:blipFill>
        <p:spPr>
          <a:xfrm>
            <a:off x="152280" y="1523880"/>
            <a:ext cx="8763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Dufour quote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63554c"/>
                </a:solidFill>
                <a:latin typeface="Times New Roman"/>
                <a:ea typeface="Times New Roman"/>
              </a:rPr>
              <a:t>While organizations can pronounce a change in policy or procedure, they cannot proclaim a change in attitudes, beliefs, or behaviors…The concept of changing culture may seem simple enough, but changing culture is not like changing the décor.” </a:t>
            </a:r>
            <a:endParaRPr b="0" lang="en-US" sz="36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3554c"/>
                </a:solidFill>
                <a:latin typeface="Arial"/>
              </a:rPr>
              <a:t>Richard DuFour and Robert Eaker (The Leader in Me)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to expect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 Ci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enderson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Guilford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erson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utherford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 flipH="1">
            <a:off x="5180760" y="2514600"/>
            <a:ext cx="3124440" cy="1557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you h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you take a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uperintendent</a:t>
            </a:r>
            <a:r>
              <a:rPr b="1" lang="ja-JP" sz="3600" spc="-1" strike="noStrike">
                <a:solidFill>
                  <a:srgbClr val="63554c"/>
                </a:solidFill>
                <a:latin typeface="Arial Bold"/>
              </a:rPr>
              <a:t>’</a:t>
            </a: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 View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r. Diane Fros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C Superintendent of the Yea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 Ci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, NC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14" name="Picture 1" descr="ACS CCSA.tiff"/>
          <p:cNvPicPr/>
          <p:nvPr/>
        </p:nvPicPr>
        <p:blipFill>
          <a:blip r:embed="rId1"/>
          <a:stretch/>
        </p:blipFill>
        <p:spPr>
          <a:xfrm>
            <a:off x="3733920" y="4952880"/>
            <a:ext cx="4838760" cy="698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ACS2 CCSA.tiff"/>
          <p:cNvPicPr/>
          <p:nvPr/>
        </p:nvPicPr>
        <p:blipFill>
          <a:blip r:embed="rId2"/>
          <a:stretch/>
        </p:blipFill>
        <p:spPr>
          <a:xfrm>
            <a:off x="6172200" y="327672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7:35:03Z</dcterms:created>
  <dc:creator>Allison Eargle</dc:creator>
  <dc:description/>
  <dc:language>en-US</dc:language>
  <cp:lastModifiedBy>Jan King</cp:lastModifiedBy>
  <dcterms:modified xsi:type="dcterms:W3CDTF">2013-03-13T16:40:29Z</dcterms:modified>
  <cp:revision>153</cp:revision>
  <dc:subject/>
  <dc:title>PowerPoint Presentation</dc:title>
</cp:coreProperties>
</file>