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5DEF-72F1-4A9D-A468-EF7C79883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291A-8530-457D-B9F4-BE9D1B20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5E9F-41A0-47CE-8E97-41B6E596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817-647F-4DFF-8992-4C162365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39C-ED7F-4E82-AD58-D3A83086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73AD-33BA-4463-ADC1-A6E5EE10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D61-3B14-4FC4-97C9-67FA41BC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FEF0-D0EA-4938-A3BE-E2D04343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7524-E529-49F4-BBC3-7B297421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CD88-C539-4227-933A-EADD2129B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124-9172-4B2B-A72A-7423F572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7644-41D3-46DD-990C-E5B6AB0F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19B-FCC8-490D-8922-D39F55F1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FC03-6434-451D-8B91-0B776671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4CE-AB5D-48AB-9130-F111CEE2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097-2948-46EE-98FE-08E9C4F2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DA5-0942-4E9B-8583-5A0E9D70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313-E8B2-480B-A7A2-5874A861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5C6-8D14-43AF-A6A0-B6018D0B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746-66F3-4266-80F6-C8F75BA7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511-2F62-493A-898C-C12D7329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0E75-9072-4698-BD6C-F532A504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126-7D67-4598-B8C2-31AF727833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5F1-00C0-4FA5-82E2-46903B44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365-5724-4030-8E63-F2236A16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6E5-E905-427D-ACF5-ED1F4204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BDC-4F59-471F-8BD3-02FE5454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643-B8D5-40B6-B2CE-02DE0209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8A4-B460-4996-ABFC-51ACD1BA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885-4515-493D-BFB3-0ED1E678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170-C993-4A48-BE72-D533C5D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55F-65EC-4A6B-96A2-A9FB68D5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BDC-E23D-46BD-8352-63DC33F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9E4-0AB4-411D-87D9-70B8A8B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39E-1CAE-402C-8D20-1635941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BBE-223C-4113-9DDD-50EDF32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F2C-DBF8-4285-8283-D19512A5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B15-FFA1-45DD-8D00-3B5517C6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42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5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e78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76320" y="76320"/>
            <a:ext cx="89913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324120" y="1371240"/>
            <a:ext cx="251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3" marL="1248120" indent="-178200">
              <a:spcBef>
                <a:spcPts val="4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4" marL="1604520" indent="-178200">
              <a:spcBef>
                <a:spcPts val="4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5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 lvl="6" marL="1604520" indent="-178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125" name="Picture 10" descr="READYppt_slide_logo.jpg"/>
          <p:cNvPicPr/>
          <p:nvPr/>
        </p:nvPicPr>
        <p:blipFill>
          <a:blip r:embed="rId3"/>
          <a:stretch/>
        </p:blipFill>
        <p:spPr>
          <a:xfrm>
            <a:off x="7162920" y="254160"/>
            <a:ext cx="838080" cy="87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309600" y="304920"/>
            <a:ext cx="5938920" cy="5849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380880" y="1447920"/>
            <a:ext cx="5867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 flipH="1">
            <a:off x="304200" y="1447920"/>
            <a:ext cx="2514600" cy="4706640"/>
          </a:xfrm>
          <a:prstGeom prst="rect">
            <a:avLst/>
          </a:prstGeom>
          <a:solidFill>
            <a:srgbClr val="73b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600200"/>
            <a:ext cx="601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63554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63554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63554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EADYppt_title_2.jpg"/>
          <p:cNvPicPr/>
          <p:nvPr/>
        </p:nvPicPr>
        <p:blipFill>
          <a:blip r:embed="rId2"/>
          <a:srcRect l="0" t="70499" r="0" b="0"/>
          <a:stretch/>
        </p:blipFill>
        <p:spPr>
          <a:xfrm>
            <a:off x="0" y="4834080"/>
            <a:ext cx="914400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DYppt_title_2.jpg"/>
          <p:cNvPicPr/>
          <p:nvPr/>
        </p:nvPicPr>
        <p:blipFill>
          <a:blip r:embed="rId3"/>
          <a:srcRect l="0" t="0" r="75465" b="65927"/>
          <a:stretch/>
        </p:blipFill>
        <p:spPr>
          <a:xfrm>
            <a:off x="0" y="0"/>
            <a:ext cx="2243160" cy="2336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READY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1" marL="631440" indent="-2426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2" marL="922680" indent="-19404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3" marL="1214280" indent="-194040">
              <a:spcBef>
                <a:spcPts val="2401"/>
              </a:spcBef>
              <a:buClr>
                <a:srgbClr val="6355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4" marL="1505520" indent="-194040">
              <a:spcBef>
                <a:spcPts val="2401"/>
              </a:spcBef>
              <a:buClr>
                <a:srgbClr val="6355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5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lvl="6" marL="1505520" indent="-1940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32A-D25E-4730-8367-62B2C6D683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sitiveschoolculture.wikispaces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ances.harrisburke@dpi.nc.gov" TargetMode="External"/><Relationship Id="rId2" Type="http://schemas.openxmlformats.org/officeDocument/2006/relationships/hyperlink" Target="mailto:Jan.king@dpi.nc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Voices from the Field: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Maintain a Positive School Cultur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"/>
              </a:rPr>
              <a:t>March 25, 2013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ana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Kelly Schofield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SIT Chair Kristin Walt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ana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0" name="Picture 1" descr="CCSA Dana.tiff"/>
          <p:cNvPicPr/>
          <p:nvPr/>
        </p:nvPicPr>
        <p:blipFill>
          <a:blip r:embed="rId1"/>
          <a:stretch/>
        </p:blipFill>
        <p:spPr>
          <a:xfrm>
            <a:off x="4038480" y="2971800"/>
            <a:ext cx="469908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CSA Dana 2.tiff"/>
          <p:cNvPicPr/>
          <p:nvPr/>
        </p:nvPicPr>
        <p:blipFill>
          <a:blip r:embed="rId2"/>
          <a:stretch/>
        </p:blipFill>
        <p:spPr>
          <a:xfrm>
            <a:off x="6019920" y="1600200"/>
            <a:ext cx="1955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Oak Hill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rincipal Ashton Clemmon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Public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igh Point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26" name="Picture 1" descr="Oak Hill.tiff"/>
          <p:cNvPicPr/>
          <p:nvPr/>
        </p:nvPicPr>
        <p:blipFill>
          <a:blip r:embed="rId1"/>
          <a:stretch/>
        </p:blipFill>
        <p:spPr>
          <a:xfrm>
            <a:off x="5638680" y="3124080"/>
            <a:ext cx="2830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0" y="837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554c"/>
                </a:solidFill>
                <a:latin typeface="Arial"/>
              </a:rPr>
              <a:t>Break time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0" name="Picture 2" descr="clock.jpg"/>
          <p:cNvPicPr/>
          <p:nvPr/>
        </p:nvPicPr>
        <p:blipFill>
          <a:blip r:embed="rId1"/>
          <a:stretch/>
        </p:blipFill>
        <p:spPr>
          <a:xfrm>
            <a:off x="5334120" y="1676520"/>
            <a:ext cx="247176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295280" y="2895480"/>
            <a:ext cx="35816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Arial"/>
              </a:rPr>
              <a:t>See you back in 15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tories Creek Elementary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Victoria Clay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Tara Holmes, Teacher Leade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ational Distinguished School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oxboro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34" name="Picture 1" descr="Stories Creek 2.tiff"/>
          <p:cNvPicPr/>
          <p:nvPr/>
        </p:nvPicPr>
        <p:blipFill>
          <a:blip r:embed="rId1"/>
          <a:stretch/>
        </p:blipFill>
        <p:spPr>
          <a:xfrm>
            <a:off x="7238880" y="4114800"/>
            <a:ext cx="1770120" cy="185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Stories Creek.tiff"/>
          <p:cNvPicPr/>
          <p:nvPr/>
        </p:nvPicPr>
        <p:blipFill>
          <a:blip r:embed="rId2"/>
          <a:stretch/>
        </p:blipFill>
        <p:spPr>
          <a:xfrm>
            <a:off x="2971800" y="3048120"/>
            <a:ext cx="5985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East Rutherford High School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Brad Teague, Principal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Kim Carpenter, ITF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NASSP Principal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Forest City, NC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40" name="Picture 1" descr="ER logo.tiff"/>
          <p:cNvPicPr/>
          <p:nvPr/>
        </p:nvPicPr>
        <p:blipFill>
          <a:blip r:embed="rId1"/>
          <a:stretch/>
        </p:blipFill>
        <p:spPr>
          <a:xfrm>
            <a:off x="4267080" y="5257800"/>
            <a:ext cx="4381560" cy="851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East R crest.tiff"/>
          <p:cNvPicPr/>
          <p:nvPr/>
        </p:nvPicPr>
        <p:blipFill>
          <a:blip r:embed="rId2"/>
          <a:stretch/>
        </p:blipFill>
        <p:spPr>
          <a:xfrm>
            <a:off x="5943600" y="266688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urn and Talk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hear?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What did you take away?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Go to Wikispace</a:t>
            </a:r>
            <a:br>
              <a:rPr sz="3600"/>
            </a:b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Open the wikispace for the workshop materials: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positiveschoolculture.wikispaces.com/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297" name="Picture 1" descr="Wiki screen shot CCSA.tiff"/>
          <p:cNvPicPr/>
          <p:nvPr/>
        </p:nvPicPr>
        <p:blipFill>
          <a:blip r:embed="rId2"/>
          <a:stretch/>
        </p:blipFill>
        <p:spPr>
          <a:xfrm>
            <a:off x="1384200" y="3681360"/>
            <a:ext cx="5918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NC Teacher Working Conditions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45" name="Content Placeholder 3" descr="TWC screen shot.tiff"/>
          <p:cNvPicPr/>
          <p:nvPr/>
        </p:nvPicPr>
        <p:blipFill>
          <a:blip r:embed="rId1"/>
          <a:srcRect l="0" t="-74084" r="0" b="-74084"/>
          <a:stretch/>
        </p:blipFill>
        <p:spPr>
          <a:xfrm>
            <a:off x="304920" y="83808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81080" y="4800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teachingcondition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In this school,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we take steps to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resolve problems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2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here is an atmosphere of trust and mutual respect in this school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2.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Teachers feel comfortable raising issues and concerns that are important to them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0.7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did they say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554c"/>
                </a:solidFill>
                <a:latin typeface="Arial"/>
              </a:rPr>
              <a:t>Overall, my school is a good place to work and learn.</a:t>
            </a:r>
            <a:endParaRPr b="0" lang="en-US" sz="44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743200" y="4800600"/>
            <a:ext cx="358128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4.6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533520" y="1905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ader is one 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the way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the way, 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w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w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Theatre of Voices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If you Don</a:t>
            </a:r>
            <a:r>
              <a:rPr b="0" lang="ja-JP" sz="3200" spc="-1" strike="noStrike" u="sng">
                <a:solidFill>
                  <a:srgbClr val="63554c"/>
                </a:solidFill>
                <a:uFillTx/>
                <a:latin typeface="Arial"/>
              </a:rPr>
              <a:t>’</a:t>
            </a:r>
            <a:r>
              <a:rPr b="0" lang="en-US" sz="3200" spc="-1" strike="noStrike" u="sng">
                <a:solidFill>
                  <a:srgbClr val="63554c"/>
                </a:solidFill>
                <a:uFillTx/>
                <a:latin typeface="Arial"/>
              </a:rPr>
              <a:t>t Feed the Teachers, They Eat the Students! Guide to Success for Administrators and Teache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uthor Neila A. Connor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ontact Information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Frances Harris-Burke,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al Lead – Region 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rances.harrisburke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Jan King, Regional Lead – Region 7/8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Jan.king@dpi.nc.gov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	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3554c"/>
                </a:solidFill>
                <a:latin typeface="Arial"/>
              </a:rPr>
              <a:t>Every public school student will graduate from high school, globally competitive for work and postsecondary education and prepared for life in the 21st Century.</a:t>
            </a:r>
            <a:r>
              <a:rPr b="0" i="1" lang="ja-JP" sz="3200" spc="-1" strike="noStrike">
                <a:solidFill>
                  <a:srgbClr val="63554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533520" y="74304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Arial"/>
                <a:ea typeface="MS PGothic"/>
              </a:rPr>
              <a:t>NC State Board of Education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554c"/>
                </a:solidFill>
                <a:latin typeface="Arial Bold"/>
              </a:rPr>
              <a:t>Outcomes:</a:t>
            </a:r>
            <a:endParaRPr b="1" lang="en-US" sz="40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Define practices for maintaining a k-12 positive school culture;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554c"/>
                </a:solidFill>
                <a:latin typeface="Arial"/>
              </a:rPr>
              <a:t>Gain an understanding on how award winning educators have implemented these practices in their schools; </a:t>
            </a:r>
            <a:endParaRPr b="0" lang="en-US" sz="28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 Bold"/>
              </a:rPr>
              <a:t>Can We Agree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3520" y="1523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To be actively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lu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Agree to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876920" y="3660840"/>
            <a:ext cx="3549600" cy="182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Cultural Leadership  Wordle 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pic>
        <p:nvPicPr>
          <p:cNvPr id="306" name="Content Placeholder 1" descr="CCSA Wordle.tiff"/>
          <p:cNvPicPr/>
          <p:nvPr/>
        </p:nvPicPr>
        <p:blipFill>
          <a:blip r:embed="rId1"/>
          <a:srcRect l="0" t="-6982" r="0" b="-6982"/>
          <a:stretch/>
        </p:blipFill>
        <p:spPr>
          <a:xfrm>
            <a:off x="152280" y="1523880"/>
            <a:ext cx="876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Dufour quote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63554c"/>
                </a:solidFill>
                <a:latin typeface="Times New Roman"/>
                <a:ea typeface="Times New Roman"/>
              </a:rPr>
              <a:t>While organizations can pronounce a change in policy or procedure, they cannot proclaim a change in attitudes, beliefs, or behaviors…The concept of changing culture may seem simple enough, but changing culture is not like changing the décor.” </a:t>
            </a:r>
            <a:endParaRPr b="0" lang="en-US" sz="3600" spc="-1" strike="noStrike">
              <a:solidFill>
                <a:srgbClr val="63554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554c"/>
                </a:solidFill>
                <a:latin typeface="Arial"/>
              </a:rPr>
              <a:t>Richard DuFour and Robert Eaker (The Leader in Me)</a:t>
            </a: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55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What to expect?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Hend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Guil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Person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utherford County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flipH="1">
            <a:off x="5180760" y="2514600"/>
            <a:ext cx="31244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h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you take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uperintendent</a:t>
            </a:r>
            <a:r>
              <a:rPr b="1" lang="ja-JP" sz="3600" spc="-1" strike="noStrike">
                <a:solidFill>
                  <a:srgbClr val="63554c"/>
                </a:solidFill>
                <a:latin typeface="Arial Bold"/>
              </a:rPr>
              <a:t>’</a:t>
            </a:r>
            <a:r>
              <a:rPr b="1" lang="en-US" sz="3600" spc="-1" strike="noStrike">
                <a:solidFill>
                  <a:srgbClr val="63554c"/>
                </a:solidFill>
                <a:latin typeface="Arial Bold"/>
              </a:rPr>
              <a:t>s View</a:t>
            </a:r>
            <a:endParaRPr b="1" lang="en-US" sz="3600" spc="-1" strike="noStrike">
              <a:solidFill>
                <a:srgbClr val="63554c"/>
              </a:solidFill>
              <a:latin typeface="Arial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Dr. Diane Frost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2012 NC Superintendent of the Year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Region 5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 City Schools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6355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554c"/>
                </a:solidFill>
                <a:latin typeface="Arial"/>
              </a:rPr>
              <a:t>Asheboro, NC </a:t>
            </a:r>
            <a:endParaRPr b="0" lang="en-US" sz="3200" spc="-1" strike="noStrike">
              <a:solidFill>
                <a:srgbClr val="63554c"/>
              </a:solidFill>
              <a:latin typeface="Arial"/>
            </a:endParaRPr>
          </a:p>
        </p:txBody>
      </p:sp>
      <p:pic>
        <p:nvPicPr>
          <p:cNvPr id="314" name="Picture 1" descr="ACS CCSA.tiff"/>
          <p:cNvPicPr/>
          <p:nvPr/>
        </p:nvPicPr>
        <p:blipFill>
          <a:blip r:embed="rId1"/>
          <a:stretch/>
        </p:blipFill>
        <p:spPr>
          <a:xfrm>
            <a:off x="3733920" y="4952880"/>
            <a:ext cx="4838760" cy="69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ACS2 CCSA.tiff"/>
          <p:cNvPicPr/>
          <p:nvPr/>
        </p:nvPicPr>
        <p:blipFill>
          <a:blip r:embed="rId2"/>
          <a:stretch/>
        </p:blipFill>
        <p:spPr>
          <a:xfrm>
            <a:off x="6172200" y="327672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35:03Z</dcterms:created>
  <dc:creator>Allison Eargle</dc:creator>
  <dc:description/>
  <dc:language>en-US</dc:language>
  <cp:lastModifiedBy>Jan King</cp:lastModifiedBy>
  <dcterms:modified xsi:type="dcterms:W3CDTF">2013-03-13T16:40:29Z</dcterms:modified>
  <cp:revision>153</cp:revision>
  <dc:subject/>
  <dc:title>PowerPoint Presentation</dc:title>
</cp:coreProperties>
</file>